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806-AAA0-40CE-A209-97D3177A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AA4-6F01-498C-926D-9EA75F2F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CEA-E907-4B2C-9BEC-E98A55AF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AD1-9D90-4E9E-9BFC-589C9058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5DF-87C0-4C9C-9887-3666DBD3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C39-AD45-465E-B444-7D671DEA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A32-6094-47C0-8724-EF1FA820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21D-7056-4FAC-8BF6-DBB5DCB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8E8-94B1-4668-BC66-3AEE76A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8F5-6A23-467E-987C-1E85649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2BD-D38D-410A-8FE8-73413C0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8E4-2D76-4708-977C-B9422AB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F71A-3268-4FD4-BC0C-B161A7E782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6.jpeg"/><Relationship Id="rId8" Type="http://schemas.openxmlformats.org/officeDocument/2006/relationships/slide" Target="slide8.xm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446120" y="1779480"/>
            <a:ext cx="11680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شكر كل حين إلهنا الأم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23720" y="3429000"/>
            <a:ext cx="100105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من أنعم بالفداء الث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4960" y="169560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475280" y="419904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61280" y="1585800"/>
            <a:ext cx="10990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عبد بخشوع حبيبنا يسوع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307800" y="3044880"/>
            <a:ext cx="101217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يكفكف كل الدم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448280" y="419904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169560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798920" y="1395360"/>
            <a:ext cx="12322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شهد للجميع عن حبه البديع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871920" y="2854440"/>
            <a:ext cx="106963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صفوحٌ و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دوماً سمي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48280" y="411948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4960" y="166212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76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2305800" y="1855800"/>
            <a:ext cx="13200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ير في خطاه نسترشد هداه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318240" y="3390840"/>
            <a:ext cx="99723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هو الدليل ورب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448280" y="3852720"/>
            <a:ext cx="12040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سجد لاسم المسيح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6600" y="1432080"/>
            <a:ext cx="56746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 .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هللويا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جداً هللوي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عبد بخش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شهد ل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سير في خط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  <a:cs typeface="Arial"/>
              </a:rPr>
              <a:t>ها هللويا مجداً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شكر كل ح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ZonaNet</cp:lastModifiedBy>
  <dcterms:modified xsi:type="dcterms:W3CDTF">2008-09-22T10:25:22Z</dcterms:modified>
  <cp:revision>62</cp:revision>
  <dc:subject/>
  <dc:title>PowerPoint Presentation</dc:title>
</cp:coreProperties>
</file>