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631-52C4-42EA-93D5-6A510B25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4DF-4035-4E0B-B653-E7DDC99B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954-C94F-455F-83F3-1C953E0D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53A-966D-4372-A4EF-F7E359C2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EB7-1E5F-4064-BE98-EC19579A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E65-62D6-485C-B369-D0DFD208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739-831C-44D3-A9CA-3C07F249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0F0-76CE-449C-AD86-C93B4577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3D8-775C-495D-91CE-B355D86A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DE2-BEE5-4721-820E-D4264C4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033-BF5B-47E6-8FB6-B9C1081C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06A-F6BF-486F-986C-CA784E99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D136-D28A-4E75-A117-5F71E5BD31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6.jpeg"/><Relationship Id="rId8" Type="http://schemas.openxmlformats.org/officeDocument/2006/relationships/slide" Target="slide8.xml"/><Relationship Id="rId9" Type="http://schemas.openxmlformats.org/officeDocument/2006/relationships/image" Target="../media/image7.jpeg"/><Relationship Id="rId10" Type="http://schemas.openxmlformats.org/officeDocument/2006/relationships/slide" Target="slide1.xm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446120" y="1779480"/>
            <a:ext cx="11680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شكر كل حين إلهنا الأمين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423720" y="3429000"/>
            <a:ext cx="100105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من أنعم بالفداء الثم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4960" y="1695600"/>
            <a:ext cx="56746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 .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هللويا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جداً هللوي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475280" y="4199040"/>
            <a:ext cx="12040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جد لاسم المسيح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061280" y="1585800"/>
            <a:ext cx="10990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عبد بخشوع حبيبنا يسوع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307800" y="3044880"/>
            <a:ext cx="101217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فهو يكفكف كل الدم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448280" y="4199040"/>
            <a:ext cx="12040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جد لاسم المسيح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4960" y="1695600"/>
            <a:ext cx="56746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 .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هللويا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جداً هللوي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798920" y="1395360"/>
            <a:ext cx="12322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شهد للجميع عن حبه البديع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871920" y="2854440"/>
            <a:ext cx="106963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فهو صفوحٌ و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دوماً سمي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48280" y="4119480"/>
            <a:ext cx="12040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جد لاسم المسيح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4960" y="1662120"/>
            <a:ext cx="56746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 .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هللويا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جداً هللوي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76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2305800" y="1855800"/>
            <a:ext cx="13200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ير في خطاه نسترشد هداه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318240" y="3390840"/>
            <a:ext cx="99723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فهو الدليل ورب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1448280" y="3852720"/>
            <a:ext cx="12040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جد لاسم المسيح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96600" y="1432080"/>
            <a:ext cx="56746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 .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هللويا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جداً هللوي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عبد بخش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شهد للجم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سير في خط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Arial"/>
                <a:cs typeface="Arial"/>
              </a:rPr>
              <a:t>ها هللويا مجداً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شكر كل ح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ZonaNet</cp:lastModifiedBy>
  <dcterms:modified xsi:type="dcterms:W3CDTF">2008-09-22T10:25:22Z</dcterms:modified>
  <cp:revision>62</cp:revision>
  <dc:subject/>
  <dc:title>PowerPoint Presentation</dc:title>
</cp:coreProperties>
</file>