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B2A-EFF4-444F-ACAB-035F7C85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24B-8C67-4FF3-991B-5DA77F21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7BF-029A-4A28-9B1B-91E74AA4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1EF-67E2-41DE-AA9A-99F47EB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FCD-4D57-4E4A-8C24-A9D4412F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6411-0BD1-474C-A67D-AB16BDA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826-8C78-4D2C-8279-02E032D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F8B-3FEB-4725-92ED-FDAAC70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859-32E3-484E-988F-F515F33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072E-F2FD-4D3C-B183-781A644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42D-BE20-4F99-8019-BD0E25D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3F8-037C-437B-A33E-8C359D6D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5AC-C57F-412C-A205-BB90BD5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66D-447C-4353-A053-19652522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9041-367C-41B8-9806-E1FC2C8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E6E-CE2D-4220-8998-A5FC3060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301-BF43-4AB5-A66A-CF39BB1B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38F-C223-47AD-9B76-F19496D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678-3D48-45F6-8C25-8FAAE9B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2B3-CBCB-4C7D-87B1-F34273E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ED6-FEC2-4DBB-891C-A4FBE81E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13D-C73F-4D2D-BB09-346FDB7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77F-CA2B-4312-8D26-22B5DC8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CC1-2568-4DC5-9E05-9459342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E823-5BCF-4087-BF63-A941249283E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B43-6B5D-4E16-802F-5D9C0BEACAF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erobic_organis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</a:rPr>
              <a:t>Gram –ve Bacteria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6811"/>
          <a:stretch/>
        </p:blipFill>
        <p:spPr>
          <a:xfrm>
            <a:off x="1676520" y="2514600"/>
            <a:ext cx="5867280" cy="357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ff"/>
                </a:solidFill>
                <a:latin typeface="Verdana"/>
                <a:ea typeface="Verdana-Bold"/>
              </a:rPr>
              <a:t>On Cetrimide agar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 </a:t>
            </a:r>
            <a:endParaRPr b="0" lang="en-US" sz="33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557360"/>
          <a:ext cx="9109080" cy="5073480"/>
        </p:xfrm>
        <a:graphic>
          <a:graphicData uri="http://schemas.openxmlformats.org/drawingml/2006/table">
            <a:tbl>
              <a:tblPr/>
              <a:tblGrid>
                <a:gridCol w="1215000"/>
                <a:gridCol w="216000"/>
                <a:gridCol w="1108800"/>
                <a:gridCol w="227880"/>
                <a:gridCol w="1821960"/>
                <a:gridCol w="2581560"/>
                <a:gridCol w="1937880"/>
              </a:tblGrid>
              <a:tr h="89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Name of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ype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onstituent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-mid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ar: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-ive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mid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Mg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glyce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mide inhibits all m.o. except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seudomonas   aerugino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68120" indent="-16812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glycerol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nhance pigment productio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f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.   aerugino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solation of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seudo-monas   </a:t>
                      </a: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eruginos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from clinical speci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1295280"/>
          <a:ext cx="3810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3810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>
            <a:lum bright="-12000"/>
          </a:blip>
          <a:srcRect l="28666" t="7521" r="14407" b="26800"/>
          <a:stretch/>
        </p:blipFill>
        <p:spPr>
          <a:xfrm>
            <a:off x="4800600" y="1295280"/>
            <a:ext cx="4191120" cy="3435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0200" y="5257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igments of 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</a:rPr>
              <a:t>Pseudomonas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(pyocyan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413000"/>
          <a:ext cx="9144000" cy="5332320"/>
        </p:xfrm>
        <a:graphic>
          <a:graphicData uri="http://schemas.openxmlformats.org/drawingml/2006/table">
            <a:tbl>
              <a:tblPr/>
              <a:tblGrid>
                <a:gridCol w="1438200"/>
                <a:gridCol w="2219400"/>
                <a:gridCol w="3124080"/>
                <a:gridCol w="236232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nstitu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atio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men-tation (O/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Glucose   +.5% agar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Anaerobic tub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ntains the same medium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overed with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liquid paraf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eudomonas is an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igate aerobe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 change the color of indicator from violet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yellow in aerobic tube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3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differentiate m.o. according to oxygen requirem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SzPct val="83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.g. of m.o. utilizing glucose oxidatively 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 &amp; Micrococ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mocresol pur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7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0" lang="en-US" sz="3800" spc="-1" strike="noStrike">
                <a:solidFill>
                  <a:srgbClr val="ff99ff"/>
                </a:solidFill>
                <a:latin typeface="Arial"/>
              </a:rPr>
              <a:t>Oxidation/Fermentation of  glucose (O/F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00080" y="762120"/>
          <a:ext cx="3344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62120"/>
                    <a:ext cx="334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>
            <a:lum bright="24000"/>
          </a:blip>
          <a:srcRect l="32776" t="16239" r="44809" b="18406"/>
          <a:stretch/>
        </p:blipFill>
        <p:spPr>
          <a:xfrm>
            <a:off x="5105520" y="990720"/>
            <a:ext cx="23158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905120" y="5181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/F Te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-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+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Arial"/>
              </a:rPr>
              <a:t>Gelatin Liquefaction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3760" y="3114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88740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981080"/>
          <a:ext cx="9144000" cy="3954600"/>
        </p:xfrm>
        <a:graphic>
          <a:graphicData uri="http://schemas.openxmlformats.org/drawingml/2006/table">
            <a:tbl>
              <a:tblPr/>
              <a:tblGrid>
                <a:gridCol w="1619280"/>
                <a:gridCol w="2647800"/>
                <a:gridCol w="243864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nstitu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-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brot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gelatin (12-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 is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iquified</a:t>
                      </a:r>
                      <a:r>
                        <a:rPr b="1" lang="en-US" sz="2400" spc="-1" strike="noStrike">
                          <a:solidFill>
                            <a:srgbClr val="e9273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y m.o. produc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a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for gelat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duc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s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.g.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 aeruginosa</a:t>
                      </a: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acillus spp.</a:t>
                      </a: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79280" y="907920"/>
            <a:ext cx="75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66680" y="1219320"/>
          <a:ext cx="7086600" cy="26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708660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971800" y="4800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coli –ve        Pseudomonas +v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1219320"/>
          <a:ext cx="5943240" cy="5403600"/>
        </p:xfrm>
        <a:graphic>
          <a:graphicData uri="http://schemas.openxmlformats.org/drawingml/2006/table">
            <a:tbl>
              <a:tblPr/>
              <a:tblGrid>
                <a:gridCol w="59432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910880" y="0"/>
            <a:ext cx="51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Gram-negative R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Bordetella </a:t>
            </a:r>
            <a:r>
              <a:rPr b="1" lang="en-GB" sz="4400" spc="-1" strike="noStrike">
                <a:solidFill>
                  <a:srgbClr val="33cc33"/>
                </a:solidFill>
                <a:latin typeface="Arial"/>
              </a:rPr>
              <a:t>sp</a:t>
            </a:r>
            <a:r>
              <a:rPr b="1" lang="en-GB" sz="4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pecies of medical impor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Bordetella pertus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Morphology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Aerobic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Gram-negat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ccobacil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705" t="16346" r="22146" b="16346"/>
          <a:stretch/>
        </p:blipFill>
        <p:spPr>
          <a:xfrm>
            <a:off x="5202360" y="2286000"/>
            <a:ext cx="394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</a:rPr>
              <a:t>Gram –ve Rod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-1814" t="8603" r="50822" b="46811"/>
          <a:stretch/>
        </p:blipFill>
        <p:spPr>
          <a:xfrm>
            <a:off x="2514600" y="1828800"/>
            <a:ext cx="365760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5050"/>
                </a:solidFill>
                <a:latin typeface="Arial"/>
              </a:rPr>
              <a:t>Classification of </a:t>
            </a:r>
            <a:br>
              <a:rPr sz="5400"/>
            </a:br>
            <a:r>
              <a:rPr b="0" lang="en-US" sz="5400" spc="-1" strike="noStrike">
                <a:solidFill>
                  <a:srgbClr val="ff5050"/>
                </a:solidFill>
                <a:latin typeface="Arial"/>
              </a:rPr>
              <a:t>Gram –ve Rod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sification is based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Growth requir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Lactose fermen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acConkey'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r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xidas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Classification of Gram-negative Rods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990720"/>
          <a:ext cx="9144000" cy="5403600"/>
        </p:xfrm>
        <a:graphic>
          <a:graphicData uri="http://schemas.openxmlformats.org/drawingml/2006/table">
            <a:tbl>
              <a:tblPr/>
              <a:tblGrid>
                <a:gridCol w="2370240"/>
                <a:gridCol w="4233600"/>
                <a:gridCol w="2540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ultative anaerobes or microaerophi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0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2680" indent="-5724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Bacilli (Rod-shaped)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nega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erobacteriacea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tose-Ferment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 LactoseFermenter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posi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eurellaceae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emophilus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eurell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ctero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sobacterium</a:t>
                      </a:r>
                      <a:r>
                        <a:rPr b="0" lang="en-US" sz="2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0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-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Gram-negative Rods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4965840"/>
        </p:xfrm>
        <a:graphic>
          <a:graphicData uri="http://schemas.openxmlformats.org/drawingml/2006/table">
            <a:tbl>
              <a:tblPr/>
              <a:tblGrid>
                <a:gridCol w="2370240"/>
                <a:gridCol w="4233600"/>
                <a:gridCol w="2540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ultative anaerobes or microaerophi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Curved / Helical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haped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nega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licobac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mpylobac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posi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ibrio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1219320"/>
          <a:ext cx="5943240" cy="5403600"/>
        </p:xfrm>
        <a:graphic>
          <a:graphicData uri="http://schemas.openxmlformats.org/drawingml/2006/table">
            <a:tbl>
              <a:tblPr/>
              <a:tblGrid>
                <a:gridCol w="59432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910880" y="0"/>
            <a:ext cx="51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Gram-negative R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</a:t>
            </a:r>
            <a:r>
              <a:rPr b="1" lang="en-GB" sz="4000" spc="-1" strike="noStrike">
                <a:solidFill>
                  <a:srgbClr val="33cc33"/>
                </a:solidFill>
                <a:latin typeface="Arial"/>
              </a:rPr>
              <a:t>sp</a:t>
            </a:r>
            <a:r>
              <a:rPr b="1" lang="en-GB" sz="40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pecies of medical impor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Pseudomonas aerugin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Morphology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" sz="3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Aerobic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, Gram-negative, </a:t>
            </a:r>
            <a:r>
              <a:rPr b="1" lang="en" sz="36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en" sz="3600" spc="-1" strike="noStrike">
                <a:solidFill>
                  <a:srgbClr val="ffcc99"/>
                </a:solidFill>
                <a:latin typeface="Arial"/>
              </a:rPr>
              <a:t>on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spore forming, </a:t>
            </a:r>
            <a:r>
              <a:rPr b="1" lang="en" sz="3600" spc="-1" strike="noStrike">
                <a:solidFill>
                  <a:srgbClr val="ffffcc"/>
                </a:solidFill>
                <a:latin typeface="Arial"/>
              </a:rPr>
              <a:t>ro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d sha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* One or more polar flagel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providing moti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seudomonas aeruginosa</a:t>
            </a:r>
            <a:br>
              <a:rPr sz="4000"/>
            </a:br>
            <a:r>
              <a:rPr b="1" lang="en-US" sz="3000" spc="-1" strike="noStrike" u="sng">
                <a:solidFill>
                  <a:srgbClr val="00ff00"/>
                </a:solidFill>
                <a:uFillTx/>
                <a:latin typeface="Arial"/>
              </a:rPr>
              <a:t>MICROORGANISM</a:t>
            </a: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3700" b="0"/>
          <a:stretch/>
        </p:blipFill>
        <p:spPr>
          <a:xfrm>
            <a:off x="1828800" y="1295280"/>
            <a:ext cx="5253120" cy="525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Cultural characterist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cetrimide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Biochemical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latin liquef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acill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xidation/Fermentation (O/F)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xidase t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ro</cp:lastModifiedBy>
  <dcterms:modified xsi:type="dcterms:W3CDTF">2009-03-17T18:06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