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834-5E6B-4B54-9DEA-BE7D96A8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DB2-C537-47BA-A15A-73D3139F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4C1-B589-44B2-AFA2-EB3985A6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CEB-403B-4985-8FA7-5249A0CC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63DA-7364-46C0-9092-551964C3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5E9A-1820-48F4-AF25-8D62C6EF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B5D9-FF3A-4203-83EE-B916BC2D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FADE-2AD1-457F-8352-6CDF81E1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635B-572E-4A99-A14E-3703BE5A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8D8E-2BF0-4C86-8809-1E1E2A44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B103-4BE9-403C-9C27-EF333DB4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DD8-AA4B-4FEF-AB39-47F7DAB1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BA76-7EA1-4CEF-8203-7FFA5E71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3560-99D4-4365-A0C3-91FE6AA3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8373-CB09-465E-84E0-160E736A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F418-BB3D-46E7-9920-2076DC7D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352E-2AD5-40A2-92C0-A2DCA5DA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D96-F4C7-40B8-BB4C-97CC320E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E24-5CBF-4097-AB7B-4EA2DB84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2C6-0790-4431-8E87-930E677F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A9D-A43D-4A1D-A26F-3895BA94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5CB-D840-44AA-9E9E-8C60D69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FE3-82E3-45A5-AD03-EE767695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ACC-CAD5-4516-9E68-D04740F5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D9B4-A1C6-42DD-BA78-B6D2FE0F3DF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90C6-1DB0-47A7-9A44-3BA36448D0C0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erobic_organis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</a:rPr>
              <a:t>Gram –ve Bacteria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46811"/>
          <a:stretch/>
        </p:blipFill>
        <p:spPr>
          <a:xfrm>
            <a:off x="1676520" y="2514600"/>
            <a:ext cx="5867280" cy="357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2b2b2"/>
                </a:solidFill>
                <a:latin typeface="Verdana"/>
                <a:ea typeface="Verdana-Bold"/>
              </a:rPr>
              <a:t> </a:t>
            </a:r>
            <a:r>
              <a:rPr b="1" i="1" lang="en-GB" sz="4000" spc="-1" strike="noStrike">
                <a:solidFill>
                  <a:srgbClr val="33cc33"/>
                </a:solidFill>
                <a:latin typeface="Arial"/>
              </a:rPr>
              <a:t>Pseudomonas aeruginosa</a:t>
            </a:r>
            <a:r>
              <a:rPr b="0" lang="en-US" sz="3300" spc="-1" strike="noStrike">
                <a:solidFill>
                  <a:srgbClr val="b2b2b2"/>
                </a:solidFill>
                <a:latin typeface="Verdana"/>
                <a:ea typeface="Verdana-Bold"/>
              </a:rPr>
              <a:t> </a:t>
            </a:r>
            <a:br>
              <a:rPr sz="3300"/>
            </a:br>
            <a:r>
              <a:rPr b="0" lang="en-US" sz="3300" spc="-1" strike="noStrike">
                <a:solidFill>
                  <a:srgbClr val="ff99ff"/>
                </a:solidFill>
                <a:latin typeface="Verdana"/>
                <a:ea typeface="Verdana-Bold"/>
              </a:rPr>
              <a:t>On Cetrimide agar</a:t>
            </a:r>
            <a:r>
              <a:rPr b="0" lang="en-US" sz="3300" spc="-1" strike="noStrike">
                <a:solidFill>
                  <a:srgbClr val="b2b2b2"/>
                </a:solidFill>
                <a:latin typeface="Verdana"/>
                <a:ea typeface="Verdana-Bold"/>
              </a:rPr>
              <a:t>  </a:t>
            </a:r>
            <a:endParaRPr b="0" lang="en-US" sz="33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557360"/>
          <a:ext cx="9109080" cy="5073480"/>
        </p:xfrm>
        <a:graphic>
          <a:graphicData uri="http://schemas.openxmlformats.org/drawingml/2006/table">
            <a:tbl>
              <a:tblPr/>
              <a:tblGrid>
                <a:gridCol w="1215000"/>
                <a:gridCol w="216000"/>
                <a:gridCol w="1108800"/>
                <a:gridCol w="227880"/>
                <a:gridCol w="1821960"/>
                <a:gridCol w="2581560"/>
                <a:gridCol w="1937880"/>
              </a:tblGrid>
              <a:tr h="890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Name of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Type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Constituent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Princi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tri-mid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ar: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ect-ive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trimid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 Mg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 glycer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8120" indent="-168120">
                        <a:buClr>
                          <a:srgbClr val="ffffff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trimide inhibits all m.o. except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Pseudomonas   aerugino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68120" indent="-168120">
                        <a:buClr>
                          <a:srgbClr val="ffffff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</a:t>
                      </a:r>
                      <a:r>
                        <a:rPr b="1" lang="en-US" sz="24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 glycerol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nhance pigment productio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of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.   aerugino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buClr>
                          <a:srgbClr val="ffffff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460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solation of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Pseudo-monas   </a:t>
                      </a: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eruginos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from clinical specim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1295280"/>
          <a:ext cx="381024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381024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>
            <a:lum bright="-12000"/>
          </a:blip>
          <a:srcRect l="28666" t="7521" r="14407" b="26800"/>
          <a:stretch/>
        </p:blipFill>
        <p:spPr>
          <a:xfrm>
            <a:off x="4800600" y="1295280"/>
            <a:ext cx="4191120" cy="3435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00200" y="5257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Pigments of </a:t>
            </a:r>
            <a:r>
              <a:rPr b="1" i="1" lang="en-US" sz="2400" spc="-1" strike="noStrike">
                <a:solidFill>
                  <a:srgbClr val="33cc33"/>
                </a:solidFill>
                <a:latin typeface="Arial"/>
              </a:rPr>
              <a:t>Pseudomonas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(pyocyan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413000"/>
          <a:ext cx="9144000" cy="5332320"/>
        </p:xfrm>
        <a:graphic>
          <a:graphicData uri="http://schemas.openxmlformats.org/drawingml/2006/table">
            <a:tbl>
              <a:tblPr/>
              <a:tblGrid>
                <a:gridCol w="1438200"/>
                <a:gridCol w="2219400"/>
                <a:gridCol w="3124080"/>
                <a:gridCol w="2362320"/>
              </a:tblGrid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T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onstitu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rinci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atio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rmen-tation (O/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 Glucose   +.5% agar 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Anaerobic tub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ntains the same medium </a:t>
                      </a: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overed with</a:t>
                      </a:r>
                      <a:r>
                        <a:rPr b="1" lang="en-US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liquid paraf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eudomonas is an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igate aerobe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t change the color of indicator from violet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yellow in aerobic tube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SzPct val="83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differentiate m.o. according to oxygen requirem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SzPct val="83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.g. of m.o. utilizing glucose oxidatively 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seudomonas &amp; Micrococ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mocresol pur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en-GB" sz="4400" spc="-1" strike="noStrike">
                <a:solidFill>
                  <a:srgbClr val="33cc33"/>
                </a:solidFill>
                <a:latin typeface="Arial"/>
              </a:rPr>
              <a:t>Pseudomonas aeruginosa</a:t>
            </a:r>
            <a:r>
              <a:rPr b="0" lang="en-US" sz="3700" spc="-1" strike="noStrike">
                <a:solidFill>
                  <a:srgbClr val="b2b2b2"/>
                </a:solidFill>
                <a:latin typeface="Verdana"/>
                <a:ea typeface="Verdana-Bold"/>
              </a:rPr>
              <a:t> </a:t>
            </a:r>
            <a:r>
              <a:rPr b="0" lang="en-US" sz="3800" spc="-1" strike="noStrike">
                <a:solidFill>
                  <a:srgbClr val="ff99ff"/>
                </a:solidFill>
                <a:latin typeface="Arial"/>
              </a:rPr>
              <a:t>Oxidation/Fermentation of  glucose (O/F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000080" y="762120"/>
          <a:ext cx="3344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762120"/>
                    <a:ext cx="3344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>
            <a:lum bright="24000"/>
          </a:blip>
          <a:srcRect l="32776" t="16239" r="44809" b="18406"/>
          <a:stretch/>
        </p:blipFill>
        <p:spPr>
          <a:xfrm>
            <a:off x="5105520" y="990720"/>
            <a:ext cx="231588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1905120" y="5181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/F Tes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-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+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cc33"/>
                </a:solidFill>
                <a:latin typeface="Arial"/>
              </a:rPr>
              <a:t>Pseudomonas aeruginosa</a:t>
            </a:r>
            <a:r>
              <a:rPr b="0" lang="en-US" sz="3300" spc="-1" strike="noStrike">
                <a:solidFill>
                  <a:srgbClr val="b2b2b2"/>
                </a:solidFill>
                <a:latin typeface="Verdana"/>
                <a:ea typeface="Verdana-Bold"/>
              </a:rPr>
              <a:t> </a:t>
            </a:r>
            <a:r>
              <a:rPr b="0" lang="en-US" sz="4000" spc="-1" strike="noStrike">
                <a:solidFill>
                  <a:srgbClr val="ff99ff"/>
                </a:solidFill>
                <a:latin typeface="Arial"/>
              </a:rPr>
              <a:t>Gelatin Liquefaction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03760" y="3114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88740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981080"/>
          <a:ext cx="9144000" cy="3954600"/>
        </p:xfrm>
        <a:graphic>
          <a:graphicData uri="http://schemas.openxmlformats.org/drawingml/2006/table">
            <a:tbl>
              <a:tblPr/>
              <a:tblGrid>
                <a:gridCol w="1619280"/>
                <a:gridCol w="2647800"/>
                <a:gridCol w="2438640"/>
                <a:gridCol w="2438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T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Constitu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Princi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latin-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brot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+gelatin (12-1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latin is</a:t>
                      </a:r>
                      <a:r>
                        <a:rPr b="1" lang="en-US" sz="24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iquified</a:t>
                      </a:r>
                      <a:r>
                        <a:rPr b="1" lang="en-US" sz="2400" spc="-1" strike="noStrike">
                          <a:solidFill>
                            <a:srgbClr val="e9273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y m.o. producing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latinas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st for gelatin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ducing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sm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.g.</a:t>
                      </a:r>
                      <a:r>
                        <a:rPr b="1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seudomonas aeruginosa</a:t>
                      </a:r>
                      <a:r>
                        <a:rPr b="1" i="1" lang="en-US" sz="24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</a:t>
                      </a:r>
                      <a:r>
                        <a:rPr b="1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Bacillus spp.</a:t>
                      </a:r>
                      <a:r>
                        <a:rPr b="1" i="1" lang="en-US" sz="24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b2b2b2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79280" y="907920"/>
            <a:ext cx="75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66680" y="1219320"/>
          <a:ext cx="7086600" cy="26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708660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971800" y="48006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coli –ve        Pseudomonas +v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600200" y="1219320"/>
          <a:ext cx="5943240" cy="5403600"/>
        </p:xfrm>
        <a:graphic>
          <a:graphicData uri="http://schemas.openxmlformats.org/drawingml/2006/table">
            <a:tbl>
              <a:tblPr/>
              <a:tblGrid>
                <a:gridCol w="594324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erobes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 </a:t>
                      </a:r>
                      <a:r>
                        <a:rPr b="1" lang="en-GB" sz="24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Simple Growth Require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seudomonas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</a:t>
                      </a:r>
                      <a:r>
                        <a:rPr b="1" lang="en-GB" sz="24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Fastidious Growth Require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ordet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uc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ancisella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gionel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910880" y="0"/>
            <a:ext cx="51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Gram-negative R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cc33"/>
                </a:solidFill>
                <a:latin typeface="Arial"/>
              </a:rPr>
              <a:t>Bordetella </a:t>
            </a:r>
            <a:r>
              <a:rPr b="1" lang="en-GB" sz="4400" spc="-1" strike="noStrike">
                <a:solidFill>
                  <a:srgbClr val="33cc33"/>
                </a:solidFill>
                <a:latin typeface="Arial"/>
              </a:rPr>
              <a:t>sp</a:t>
            </a:r>
            <a:r>
              <a:rPr b="1" lang="en-GB" sz="44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Species of medical importa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Bordetella pertus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Morphology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Aerobic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Gram-negativ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ccobacil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705" t="16346" r="22146" b="16346"/>
          <a:stretch/>
        </p:blipFill>
        <p:spPr>
          <a:xfrm>
            <a:off x="5202360" y="2286000"/>
            <a:ext cx="3941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</a:rPr>
              <a:t>Gram –ve Rods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-1814" t="8603" r="50822" b="46811"/>
          <a:stretch/>
        </p:blipFill>
        <p:spPr>
          <a:xfrm>
            <a:off x="2514600" y="1828800"/>
            <a:ext cx="365760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5050"/>
                </a:solidFill>
                <a:latin typeface="Arial"/>
              </a:rPr>
              <a:t>Classification of </a:t>
            </a:r>
            <a:br>
              <a:rPr sz="5400"/>
            </a:br>
            <a:r>
              <a:rPr b="0" lang="en-US" sz="5400" spc="-1" strike="noStrike">
                <a:solidFill>
                  <a:srgbClr val="ff5050"/>
                </a:solidFill>
                <a:latin typeface="Arial"/>
              </a:rPr>
              <a:t>Gram –ve Rod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lassification is based 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Growth require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Lactose ferment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MacConkey'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r me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xidase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Times New Roman"/>
              </a:rPr>
              <a:t>Classification of Gram-negative Rods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990720"/>
          <a:ext cx="9144000" cy="5403600"/>
        </p:xfrm>
        <a:graphic>
          <a:graphicData uri="http://schemas.openxmlformats.org/drawingml/2006/table">
            <a:tbl>
              <a:tblPr/>
              <a:tblGrid>
                <a:gridCol w="2370240"/>
                <a:gridCol w="4233600"/>
                <a:gridCol w="2540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rob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ultative anaerobes or microaerophil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erob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0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Simple Growth Require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seudomonas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12680" indent="-57240"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Bacilli (Rod-shaped)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 </a:t>
                      </a:r>
                      <a:r>
                        <a:rPr b="1" lang="en-GB" sz="2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Oxidase negative</a:t>
                      </a:r>
                      <a:r>
                        <a:rPr b="1" lang="en-GB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terobacteriacea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ctose-Ferment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 LactoseFermenter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. </a:t>
                      </a:r>
                      <a:r>
                        <a:rPr b="1" lang="en-GB" sz="2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Oxidase positive</a:t>
                      </a:r>
                      <a:r>
                        <a:rPr b="1" lang="en-GB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eurellaceae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emophilus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teurella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acteroid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sobacterium</a:t>
                      </a:r>
                      <a:r>
                        <a:rPr b="0" lang="en-US" sz="2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</a:t>
                      </a:r>
                      <a:r>
                        <a:rPr b="1" lang="en-GB" sz="20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Fastidious Growth Require-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ordet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uc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ancisella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gionel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Times New Roman"/>
              </a:rPr>
              <a:t>Gram-negative Rods</a:t>
            </a:r>
            <a:r>
              <a:rPr b="0" lang="en-US" sz="18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4965840"/>
        </p:xfrm>
        <a:graphic>
          <a:graphicData uri="http://schemas.openxmlformats.org/drawingml/2006/table">
            <a:tbl>
              <a:tblPr/>
              <a:tblGrid>
                <a:gridCol w="2370240"/>
                <a:gridCol w="4233600"/>
                <a:gridCol w="2540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rob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ultative anaerobes or microaerophil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erob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</a:t>
                      </a:r>
                      <a:r>
                        <a:rPr b="1" lang="en-GB" sz="28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Curved / Helical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8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shaped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 </a:t>
                      </a:r>
                      <a:r>
                        <a:rPr b="1" lang="en-GB" sz="2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Oxidase negative</a:t>
                      </a:r>
                      <a:r>
                        <a:rPr b="1" lang="en-GB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licobac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mpylobac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. </a:t>
                      </a:r>
                      <a:r>
                        <a:rPr b="1" lang="en-GB" sz="28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Oxidase positive</a:t>
                      </a:r>
                      <a:r>
                        <a:rPr b="1" lang="en-GB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</a:t>
                      </a:r>
                      <a:r>
                        <a:rPr b="1" i="1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ibrio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12680" indent="-5724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00200" y="1219320"/>
          <a:ext cx="5943240" cy="5403600"/>
        </p:xfrm>
        <a:graphic>
          <a:graphicData uri="http://schemas.openxmlformats.org/drawingml/2006/table">
            <a:tbl>
              <a:tblPr/>
              <a:tblGrid>
                <a:gridCol w="5943240"/>
              </a:tblGrid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erobes</a:t>
                      </a:r>
                      <a:r>
                        <a:rPr b="0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  </a:t>
                      </a:r>
                      <a:r>
                        <a:rPr b="1" lang="en-GB" sz="24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Simple Growth Require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seudomonas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. </a:t>
                      </a:r>
                      <a:r>
                        <a:rPr b="1" lang="en-GB" sz="2400" spc="-1" strike="noStrike" u="sng">
                          <a:solidFill>
                            <a:srgbClr val="ff99ff"/>
                          </a:solidFill>
                          <a:uFillTx/>
                          <a:latin typeface="Arial"/>
                        </a:rPr>
                        <a:t>Fastidious Growth Requirement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ordet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ucella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ancisella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gionel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1910880" y="0"/>
            <a:ext cx="51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Gram-negative R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33cc33"/>
                </a:solidFill>
                <a:latin typeface="Arial"/>
              </a:rPr>
              <a:t>Pseudomonas </a:t>
            </a:r>
            <a:r>
              <a:rPr b="1" lang="en-GB" sz="4000" spc="-1" strike="noStrike">
                <a:solidFill>
                  <a:srgbClr val="33cc33"/>
                </a:solidFill>
                <a:latin typeface="Arial"/>
              </a:rPr>
              <a:t>sp</a:t>
            </a:r>
            <a:r>
              <a:rPr b="1" lang="en-GB" sz="4000" spc="-1" strike="noStrike">
                <a:solidFill>
                  <a:srgbClr val="33cc33"/>
                </a:solidFill>
                <a:latin typeface="Arial"/>
              </a:rPr>
              <a:t>.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Species of medical importa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Pseudomonas aerugin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Morphology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" sz="3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Aerobic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, Gram-negative, </a:t>
            </a:r>
            <a:r>
              <a:rPr b="1" lang="en" sz="36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en" sz="3600" spc="-1" strike="noStrike">
                <a:solidFill>
                  <a:srgbClr val="ffcc99"/>
                </a:solidFill>
                <a:latin typeface="Arial"/>
              </a:rPr>
              <a:t>on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spore forming, </a:t>
            </a:r>
            <a:r>
              <a:rPr b="1" lang="en" sz="3600" spc="-1" strike="noStrike">
                <a:solidFill>
                  <a:srgbClr val="ffffcc"/>
                </a:solidFill>
                <a:latin typeface="Arial"/>
              </a:rPr>
              <a:t>ro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d shap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* One or more polar flagella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ffffff"/>
                </a:solidFill>
                <a:latin typeface="Arial"/>
              </a:rPr>
              <a:t>providing motil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Arial"/>
              </a:rPr>
              <a:t>Pseudomonas aeruginosa</a:t>
            </a:r>
            <a:br>
              <a:rPr sz="4000"/>
            </a:br>
            <a:r>
              <a:rPr b="1" lang="en-US" sz="3000" spc="-1" strike="noStrike" u="sng">
                <a:solidFill>
                  <a:srgbClr val="00ff00"/>
                </a:solidFill>
                <a:uFillTx/>
                <a:latin typeface="Arial"/>
              </a:rPr>
              <a:t>MICROORGANISM</a:t>
            </a:r>
            <a:r>
              <a:rPr b="1" lang="en-US" sz="3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23700" b="0"/>
          <a:stretch/>
        </p:blipFill>
        <p:spPr>
          <a:xfrm>
            <a:off x="1828800" y="1295280"/>
            <a:ext cx="5253120" cy="5257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cc33"/>
                </a:solidFill>
                <a:latin typeface="Arial"/>
              </a:rPr>
              <a:t>Pseudomonas aeruginos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Cultural characteristi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cetrimide ag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Biochemical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latin liquefa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a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acillu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xidation/Fermentation (O/F)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xidase t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iss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ro</cp:lastModifiedBy>
  <dcterms:modified xsi:type="dcterms:W3CDTF">2009-03-17T18:06:5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