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BA1-EAB6-4258-AD56-D40A5B78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3CF-10A5-428F-BE54-E55A4467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390-86DC-45B3-B700-49F26F49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B78-4010-4345-9E64-602A1F3F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0A2-F05F-48DD-A2AC-450AFDCF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59D-70AA-4B88-A9E0-4C1D8788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EC9-6FAB-442F-860F-08F5D2D5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845-4FD6-413E-B1F9-BB7EC5B0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E99-6BB5-44A4-A166-9294408D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15C-1468-477E-9D0A-779A74B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EF2-4F48-4791-9EBC-7EC37BD2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8C5-361D-4006-9B80-DFDB98E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60D0-43FC-41B7-B9C2-BF18B455A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9600" spc="-1" strike="noStrike">
                <a:solidFill>
                  <a:srgbClr val="d60093"/>
                </a:solidFill>
                <a:latin typeface="Lucida Handwriting"/>
              </a:rPr>
              <a:t>Iedereen heeft een vriend nodig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6280" y="457200"/>
            <a:ext cx="40496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12800"/>
            <a:ext cx="746784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68400" y="304920"/>
            <a:ext cx="53420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735120"/>
            <a:ext cx="777240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38280"/>
            <a:ext cx="7391160" cy="5413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97964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627120"/>
            <a:ext cx="746784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84400" y="304920"/>
            <a:ext cx="4916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24160" y="704880"/>
            <a:ext cx="62956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0320" y="898560"/>
            <a:ext cx="7621560" cy="50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014480"/>
            <a:ext cx="830592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44680"/>
            <a:ext cx="7619760" cy="57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757080"/>
            <a:ext cx="8534520" cy="524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01:41:29Z</dcterms:created>
  <dc:creator>Majorie Dean (aka:  ~Â~ngel/Emmie)</dc:creator>
  <dc:description>For animal lovers everywhere</dc:description>
  <dc:language>en-US</dc:language>
  <cp:lastModifiedBy>Smets</cp:lastModifiedBy>
  <dcterms:modified xsi:type="dcterms:W3CDTF">2008-10-30T18:38:29Z</dcterms:modified>
  <cp:revision>8</cp:revision>
  <dc:subject/>
  <dc:title>Everybody Needs Friends!</dc:title>
</cp:coreProperties>
</file>