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77976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08120" y="2716920"/>
            <a:ext cx="77976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4760" y="153036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1400" y="153036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08120" y="271692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4760" y="271692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1400" y="271692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08120" y="1530360"/>
            <a:ext cx="7797600" cy="22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77976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960" y="825120"/>
            <a:ext cx="841536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08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08120" y="2716920"/>
            <a:ext cx="77976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469800"/>
            <a:ext cx="8447040" cy="578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43570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08120" y="1530360"/>
            <a:ext cx="77976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9044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013280" y="6550200"/>
            <a:ext cx="1471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77720"/>
                <a:tab algn="r" pos="600084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cha     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.01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77720"/>
                <a:tab algn="r" pos="600084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chero 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ITULO8.</a:t>
            </a:r>
            <a:fld id="{1FAA45E0-DBD2-4BDF-BABC-0A471A05D35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77720"/>
                <a:tab algn="r" pos="600084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45960" y="6372360"/>
            <a:ext cx="365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ATIC N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16520" y="114480"/>
            <a:ext cx="2830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7040" y="6626160"/>
            <a:ext cx="267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iemens S.A 2000. Todos los derechos reservad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608960" y="6400800"/>
          <a:ext cx="1282680" cy="45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08960" y="6400800"/>
                    <a:ext cx="1282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343080" y="171360"/>
            <a:ext cx="960120" cy="21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arma de diagnóstico (OB82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52480" y="2209680"/>
          <a:ext cx="560088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6008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de diagnóstico de red DP (FC 99 y FB 99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59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7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22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099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47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76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23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38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892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94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590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515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30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610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51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498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14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627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81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183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98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246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674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740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1447920"/>
          <a:ext cx="670536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05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funcionamiento bloque “DP-DIA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62320" y="1600200"/>
            <a:ext cx="4725360" cy="4038480"/>
            <a:chOff x="2362320" y="1600200"/>
            <a:chExt cx="4725360" cy="4038480"/>
          </a:xfrm>
        </p:grpSpPr>
        <p:sp>
          <p:nvSpPr>
            <p:cNvPr id="105" name=""/>
            <p:cNvSpPr/>
            <p:nvPr/>
          </p:nvSpPr>
          <p:spPr>
            <a:xfrm>
              <a:off x="5837040" y="1600200"/>
              <a:ext cx="10443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terlocu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esclavo D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30640" y="16002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P PROFIB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ciclo de sondeo D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1600200"/>
              <a:ext cx="1920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grama de usuar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ciclo CP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2440" y="5335560"/>
              <a:ext cx="725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14680" y="2485800"/>
              <a:ext cx="104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, 1, 8181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317400" y="2093760"/>
              <a:ext cx="1080" cy="35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08240" y="2008080"/>
              <a:ext cx="426600" cy="87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040" y="4736880"/>
              <a:ext cx="1471320" cy="4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aluar datos de diagnóst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14680" y="2251080"/>
              <a:ext cx="1044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P-DI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19200" y="2465280"/>
              <a:ext cx="15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18840" y="2700360"/>
              <a:ext cx="14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5200" y="3062160"/>
              <a:ext cx="1045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, 0, 8181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35200" y="2827080"/>
              <a:ext cx="1045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P-DI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1520" y="3041640"/>
              <a:ext cx="151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341160" y="3274920"/>
              <a:ext cx="14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4680" y="4297320"/>
              <a:ext cx="104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, 0, 0000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14680" y="4062240"/>
              <a:ext cx="104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P-DI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9200" y="4275000"/>
              <a:ext cx="15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318840" y="4510080"/>
              <a:ext cx="14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24200" y="2008080"/>
              <a:ext cx="425160" cy="87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6960" y="2555640"/>
              <a:ext cx="151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8720" y="2008080"/>
              <a:ext cx="426600" cy="87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838400" y="4074840"/>
              <a:ext cx="151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41640" y="5340240"/>
              <a:ext cx="725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38400" y="2098440"/>
              <a:ext cx="1080" cy="35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2640" y="5340240"/>
              <a:ext cx="725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357600" y="2098440"/>
              <a:ext cx="2520" cy="35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llo del bastidor (OB8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828800" y="1905120"/>
          <a:ext cx="5613480" cy="31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61348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locales del OB8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43000" y="1905120"/>
          <a:ext cx="6916680" cy="31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91668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do código de error B#16#C4/C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523880"/>
          <a:ext cx="6197760" cy="54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197760" cy="54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ctura de datos de diagnóstico (SFC 13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52480" y="2286000"/>
          <a:ext cx="5613480" cy="23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61348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ámetros de la SFC 13 (DPNRM_D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1676520"/>
          <a:ext cx="5767200" cy="36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76720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de la diagnosis de escla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2286000"/>
          <a:ext cx="5613480" cy="31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6134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2120" y="1828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ET 200B dig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cha “Maestro D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642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cha “Esclavo D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in%20título1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3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7T12:19:12Z</dcterms:created>
  <dc:creator>Software Pool</dc:creator>
  <dc:description/>
  <dc:language>en-US</dc:language>
  <cp:lastModifiedBy>PSCS4</cp:lastModifiedBy>
  <cp:lastPrinted>1999-11-05T09:03:43Z</cp:lastPrinted>
  <dcterms:modified xsi:type="dcterms:W3CDTF">2000-04-28T15:02:31Z</dcterms:modified>
  <cp:revision>123</cp:revision>
  <dc:subject/>
  <dc:title>Projektierung und Konfiguration des CP</dc:title>
</cp:coreProperties>
</file>