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77976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08120" y="2716920"/>
            <a:ext cx="77976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120" y="153036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8120" y="271692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120" y="271692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251064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4760" y="1530360"/>
            <a:ext cx="251064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1400" y="1530360"/>
            <a:ext cx="251064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08120" y="2716920"/>
            <a:ext cx="251064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4760" y="2716920"/>
            <a:ext cx="251064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1400" y="2716920"/>
            <a:ext cx="251064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08120" y="1530360"/>
            <a:ext cx="7797600" cy="22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7797600" cy="22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3805200" cy="22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120" y="1530360"/>
            <a:ext cx="3805200" cy="22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9960" y="825120"/>
            <a:ext cx="841536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120" y="1530360"/>
            <a:ext cx="3805200" cy="22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08120" y="271692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3805200" cy="22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120" y="153036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120" y="271692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9960" y="774360"/>
            <a:ext cx="8415360" cy="40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8120" y="153036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1530360"/>
            <a:ext cx="38052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08120" y="2716920"/>
            <a:ext cx="7797600" cy="108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5680" y="469800"/>
            <a:ext cx="8447040" cy="5784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43570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08120" y="1530360"/>
            <a:ext cx="7797600" cy="22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9044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013280" y="6550200"/>
            <a:ext cx="1471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77720"/>
                <a:tab algn="r" pos="600084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cha     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.01.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77720"/>
                <a:tab algn="r" pos="600084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chero 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ITULO8.</a:t>
            </a:r>
            <a:fld id="{2A7C1BB8-9A4B-4927-90FA-98950C9392B5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77720"/>
                <a:tab algn="r" pos="600084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45960" y="6372360"/>
            <a:ext cx="365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ATIC N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16520" y="114480"/>
            <a:ext cx="2830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7040" y="6626160"/>
            <a:ext cx="267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Siemens S.A 2000. Todos los derechos reservad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7608960" y="6400800"/>
          <a:ext cx="1282680" cy="45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08960" y="6400800"/>
                    <a:ext cx="12826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343080" y="171360"/>
            <a:ext cx="960120" cy="21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arma de diagnóstico (OB82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52480" y="2209680"/>
          <a:ext cx="560088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6008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de diagnóstico de red DP (FC 99 y FB 99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8596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72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9224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0996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7476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876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236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9388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8928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4948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590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364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5156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5308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6108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52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512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4988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514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6272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812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1832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1984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246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6744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74000" y="573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1447920"/>
          <a:ext cx="670536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705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 funcionamiento bloque “DP-DIA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62320" y="1600200"/>
            <a:ext cx="4725360" cy="4038480"/>
            <a:chOff x="2362320" y="1600200"/>
            <a:chExt cx="4725360" cy="4038480"/>
          </a:xfrm>
        </p:grpSpPr>
        <p:sp>
          <p:nvSpPr>
            <p:cNvPr id="105" name=""/>
            <p:cNvSpPr/>
            <p:nvPr/>
          </p:nvSpPr>
          <p:spPr>
            <a:xfrm>
              <a:off x="5837040" y="1600200"/>
              <a:ext cx="10443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terlocu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esclavo D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30640" y="1600200"/>
              <a:ext cx="14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P PROFIB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ciclo de sondeo D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1600200"/>
              <a:ext cx="19206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ograma de usuar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ciclo CP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22440" y="5335560"/>
              <a:ext cx="7250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14680" y="2485800"/>
              <a:ext cx="1044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, 1, 8181 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317400" y="2093760"/>
              <a:ext cx="1080" cy="350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08240" y="2008080"/>
              <a:ext cx="426600" cy="87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040" y="4736880"/>
              <a:ext cx="1471320" cy="42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valuar datos de diagnóst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14680" y="2251080"/>
              <a:ext cx="1044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P-DI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19200" y="2465280"/>
              <a:ext cx="151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18840" y="2700360"/>
              <a:ext cx="14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5200" y="3062160"/>
              <a:ext cx="1045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, 0, 8181 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35200" y="2827080"/>
              <a:ext cx="1045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P-DI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1520" y="3041640"/>
              <a:ext cx="151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341160" y="3274920"/>
              <a:ext cx="14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14680" y="4297320"/>
              <a:ext cx="1044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, 0, 0000 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14680" y="4062240"/>
              <a:ext cx="1044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P-DI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9200" y="4275000"/>
              <a:ext cx="151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318840" y="4510080"/>
              <a:ext cx="14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24200" y="2008080"/>
              <a:ext cx="425160" cy="87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36960" y="2555640"/>
              <a:ext cx="1514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38720" y="2008080"/>
              <a:ext cx="426600" cy="87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838400" y="4074840"/>
              <a:ext cx="1513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41640" y="5340240"/>
              <a:ext cx="7254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838400" y="2098440"/>
              <a:ext cx="1080" cy="350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62640" y="5340240"/>
              <a:ext cx="7250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357600" y="2098440"/>
              <a:ext cx="2520" cy="350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llo del bastidor (OB8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828800" y="1905120"/>
          <a:ext cx="5613480" cy="31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05120"/>
                    <a:ext cx="5613480" cy="31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locales del OB8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43000" y="1905120"/>
          <a:ext cx="6916680" cy="313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91668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do código de error B#16#C4/C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523880"/>
          <a:ext cx="6197760" cy="549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197760" cy="54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ctura de datos de diagnóstico (SFC 13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52480" y="2286000"/>
          <a:ext cx="5613480" cy="235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561348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ámetros de la SFC 13 (DPNRM_D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76520" y="1676520"/>
          <a:ext cx="5767200" cy="360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76720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ructura de la diagnosis de escla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52480" y="2286000"/>
          <a:ext cx="5613480" cy="31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56134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62120" y="1828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 ET 200B dig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cha “Maestro DP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642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960" y="825120"/>
            <a:ext cx="84153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cha “Esclavo DP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in%20título1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3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7T12:19:12Z</dcterms:created>
  <dc:creator>Software Pool</dc:creator>
  <dc:description/>
  <dc:language>en-US</dc:language>
  <cp:lastModifiedBy>PSCS4</cp:lastModifiedBy>
  <cp:lastPrinted>1999-11-05T09:03:43Z</cp:lastPrinted>
  <dcterms:modified xsi:type="dcterms:W3CDTF">2000-04-28T15:02:31Z</dcterms:modified>
  <cp:revision>123</cp:revision>
  <dc:subject/>
  <dc:title>Projektierung und Konfiguration des CP</dc:title>
</cp:coreProperties>
</file>