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CE4-3AB5-4E27-A622-8E051310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0D4-8F1D-4FD6-9067-5C5C804F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015-A0DD-4101-B02C-FDEF66A8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C92-D8BD-4133-9C54-A2B67BA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64B-CE68-49E4-8457-FD554894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ACA-538F-4B3C-AE7E-D7D0E702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A8B-231A-4363-8509-76BB3F33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047-CB45-468B-AB3E-1EE68B2B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AAA-780C-46B7-AC6B-D13610B5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3D4-BBF7-491E-9326-428D461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5EA-7B69-413D-AD57-3E0965B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523-D16D-4715-8A94-D9DB1BC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B0D-AE6C-4AE2-9CD6-DC8FA663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mon R1"/>
              </a:rPr>
              <a:t>emeronTI6³ tYnaTIénkarGPivDÆn_ksikmµenA km&lt;ú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6&gt;1 sßanPaBbc©úb,nñénkarGPivDÆn_ksikmµ nigCnbTenAkm&lt;ú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8 manRKYsarrs;enACnbTcMnYn 84° eFobnwgRKYsarTaMgGs; . GñkTaMgenaHRbkb kargarksikmµ  ensaT  nigéRBeQI man88° eFobnwgkargar srub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4 Blkmµskmµ eFVIenAkñúgvis½yksikmµman71° esvakmµ21° nig   ]sSahkmµ 8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ENkplitplkñúgRsuksr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DP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4 ³ plitplksikmµmancMnYn 44/7° esvakmµ 40/3° nig]sSahkmµ 1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0 ³ plitplksikmµmancMnYn 34/1° esvakmµ 40/4° nig ]sSahkmµ 25/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4 ³ plitplksikmµmancMnYn 31° esvakmµ 35° nig     ]sSahkmµ 29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aBRkIRkCnbT RbCaCnrs;enAeRkamExSbnÞat;RkIRk 43° kñúgqñaM 1993 40° kñúgqñaM 1997 nig 35° kñúgqñaM 2004 . extþEdlRkIRkCageKKW kMBg;s&lt;W 57/2° kMBg;FM 52/4° nigesomrab 51/8°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75° énBlrdæRkIRk CaRKYsarEdlmanemRKYsarCaksikr . 90° énRKYsarRkIRk manRbPBcMNUlmkBImuxrbrksikmµ . 73°énRKYsarksikrrs;enAeRkamExSbnÞat; PaBRkIRk</a:t>
            </a:r>
            <a:r>
              <a:rPr b="0" lang="en-US" sz="4400" spc="-1" strike="noStrike">
                <a:solidFill>
                  <a:srgbClr val="000000"/>
                </a:solidFill>
                <a:latin typeface="Limon S1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nplitplksikmµmanGRta 12/7° qñaM 1997 14/6 qñaM 1998  - 0/2 ° qñaM 1999  - 4/9 ° qñaM 2000 nig 17° qñaM 2005 . KitCamFümry³eBl 10 qñaM cenøaH BI 1994-2004 man 3/3 °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GRtakMeNInesdækic©Catiry³eBl 10 qñaMknøge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4-20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an 6-7 ° . kñúgqñaM 2005 GRtakMeNInesdækic©man 13/4 ° kñúgenaH ksikmµman 17/3 ° karnaMecjplit plvayNP½NÐman 10/6 ° nigeTscrN_man 35 ° . kñúgenaHplitplRsUv)anekIn eLIgrhUtdl; 27 ° . brimaNGgárnaMecj TaMgtam ry³karcuHbBa¢Ir nigeRkAbBa¢Ir man cMnYnRbmaN 800 000 etan kñúgqñaM 2005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FnFanRbCaCnmYyrUb² )anekIneLIgRbmaN 4/5 ° CamFümkñúg 1 qñaM .</a:t>
            </a:r>
            <a:r>
              <a:rPr b="0" lang="en-US" sz="44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Limon S1"/>
              </a:rPr>
              <a:t>É&gt;]&gt; can; sarunEføgkñúgTivaes,ógGaharBiPBelak RkamRbFanbT karvinieyaK elIvis½y ksikmµ edIm,Isnþisuxes,óg enATIsþIkarRksYgksikm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Im,IseRmceKalbMNg snþisuxes,óg km&lt;úCa TamTar[mankMeNInbrimaNplit pldulksimµ 6 ° kñúg 1 qñ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6&gt;2 sar³sMxan;énkarGPivDÆn_ksik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sar³sMxan;énkarGPivDÆn_ksikmµ RtUv)anraykarN_pgEdrenAkñúgkarsikSaRsavRCav Cak;EsþgmYy cMnYnFMenARbeTsdéTeTot . karsikSaTaMgenH)an[dwgfa karGPivDÆn_ ksikmµ)anrYmcMENkdl;karGPivDÆn_vis½ydéTeTottamry³ktþaCaeRcIn dUcCa 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kMlaMgBlkmµeTA[vis½ydéTeTot CaBiessvis½y]sSahkmµ eT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cMnIGaharsRmab;RbCaCn eQICafamBl nigdMNaMEdlGacplitCaGal;kul nigeRbgrMG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sBa¢½ysRmab;vinieyaK]sSahkmµ b¤eT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TIpSarsRmab;plitpl]sSahk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cMNUlEdl)anBIkarnaMecj nigedIm,IbþÚrnwgkarnaMc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vtßúFatuedImsRmab;plitplksikmµEkéc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kEnøgkargardl;ksik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suxPaB nigEfrkSabrisßanl¥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sikSaeRbobeFobRbeTsEdleFVIeLIgedayFnaKaBiPBelak)anbBa¢ak;fa karGPivDÆn_]sSahkmµ énRbeTsGasIuGeKñy_RtUv)annaMmuxedaykarGPivDÆn_ksikm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orld Bank , 1993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imon R1"/>
              </a:rPr>
              <a:t>sUmGrKuNeRcIn¡¡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2:41:12Z</dcterms:created>
  <dc:creator>khc</dc:creator>
  <dc:description/>
  <dc:language>en-US</dc:language>
  <cp:lastModifiedBy>khc</cp:lastModifiedBy>
  <dcterms:modified xsi:type="dcterms:W3CDTF">2011-08-09T02:56:19Z</dcterms:modified>
  <cp:revision>9</cp:revision>
  <dc:subject/>
  <dc:title>emeronTI6³ tYnaTIénkarGPivDÆn_ksikmµenA km&lt;úCa</dc:title>
</cp:coreProperties>
</file>