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CBB-DBD4-4F24-97BE-FD085D65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074-B917-4BBA-875A-089E1F93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C09-AB1D-470C-B33B-A2A9F547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54C-6686-479F-81DD-D4BEB76D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8F6-4D1F-4365-B3B4-82F04B12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872-93C1-4833-80F8-269793EF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D99-19FD-441C-8816-654D1F7E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D9C-1BB5-4E5D-A57A-9FA918B5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0FB-5317-47F0-8EE1-25918BF9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58B-6E92-425B-8CAF-F80798DF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57C-CF99-4B92-BFB6-26164719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6C6-389A-4460-A255-A3A88303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DF3F-28DA-40FF-9BF2-6DE00B23F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imon R1"/>
              </a:rPr>
              <a:t>emeronTI6³ tYnaTIénkarGPivDÆn_ksikmµenA km&lt;ú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1"/>
              </a:rPr>
              <a:t>6&gt;1 sßanPaBbc©úb,nñénkarGPivDÆn_ksikmµ nigCnbTenAkm&lt;ú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1998 manRKYsarrs;enACnbTcMnYn 84° eFobnwgRKYsarTaMgGs; . GñkTaMgenaHRbkb kargarksikmµ  ensaT  nigéRBeQI man88° eFobnwgkargar srub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2004 Blkmµskmµ eFVIenAkñúgvis½yksikmµman71° esvakmµ21° nig   ]sSahkmµ 8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cMENkplitplkñúgRsuksru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DP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imon S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1994 ³ plitplksikmµmancMnYn 44/7° esvakmµ 40/3° nig]sSahkmµ 15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imon S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2000 ³ plitplksikmµmancMnYn 34/1° esvakmµ 40/4° nig ]sSahkmµ 25/5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imon S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2004 ³ plitplksikmµmancMnYn 31° esvakmµ 35° nig     ]sSahkmµ 29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aBRkIRkCnbT RbCaCnrs;enAeRkamExSbnÞat;RkIRk 43° kñúgqñaM 1993 40° kñúgqñaM 1997 nig 35° kñúgqñaM 2004 . extþEdlRkIRkCageKKW kMBg;s&lt;W 57/2° kMBg;FM 52/4° nigesomrab 51/8°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75° énBlrdæRkIRk CaRKYsarEdlmanemRKYsarCaksikr . 90° énRKYsarRkIRk manRbPBcMNUlmkBImuxrbrksikmµ . 73°énRKYsarksikrrs;enAeRkamExSbnÞat; PaBRkIRk</a:t>
            </a:r>
            <a:r>
              <a:rPr b="0" lang="en-US" sz="4400" spc="-1" strike="noStrike">
                <a:solidFill>
                  <a:srgbClr val="000000"/>
                </a:solidFill>
                <a:latin typeface="Limon S1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MeNInplitplksikmµmanGRta 12/7° qñaM 1997 14/6 qñaM 1998  - 0/2 ° qñaM 1999  - 4/9 ° qñaM 2000 nig 17° qñaM 2005 . KitCamFümry³eBl 10 qñaM cenøaH BI 1994-2004 man 3/3 °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GRtakMeNInesdækic©Catiry³eBl 10 qñaMknøge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1994-200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man 6-7 ° . kñúgqñaM 2005 GRtakMeNInesdækic©man 13/4 ° kñúgenaH ksikmµman 17/3 ° karnaMecjplit plvayNP½NÐman 10/6 ° nigeTscrN_man 35 ° . kñúgenaHplitplRsUv)anekIn eLIgrhUtdl; 27 ° . brimaNGgárnaMecj TaMgtam ry³karcuHbBa¢Ir nigeRkAbBa¢Ir man cMnYnRbmaN 800 000 etan kñúgqñaM 2005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FnFanRbCaCnmYyrUb² )anekIneLIgRbmaN 4/5 ° CamFümkñúg 1 qñaM .</a:t>
            </a:r>
            <a:r>
              <a:rPr b="0" lang="en-US" sz="4400" spc="-1" strike="noStrike">
                <a:solidFill>
                  <a:srgbClr val="000000"/>
                </a:solidFill>
                <a:latin typeface="Limon S1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Limon S1"/>
              </a:rPr>
              <a:t>É&gt;]&gt; can; sarunEføgkñúgTivaes,ógGaharBiPBelak RkamRbFanbT karvinieyaK elIvis½y ksikmµ edIm,Isnþisuxes,óg enATIsþIkarRksYgksikm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dIm,IseRmceKalbMNg snþisuxes,óg km&lt;úCa TamTar[mankMeNInbrimaNplit pldulksimµ 6 ° kñúg 1 qñ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1"/>
              </a:rPr>
              <a:t>6&gt;2 sar³sMxan;énkarGPivDÆn_ksikm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sar³sMxan;énkarGPivDÆn_ksikmµ RtUv)anraykarN_pgEdrenAkñúgkarsikSaRsavRCav Cak;EsþgmYy cMnYnFMenARbeTsdéTeTot . karsikSaTaMgenH)an[dwgfa karGPivDÆn_ ksikmµ)anrYmcMENkdl;karGPivDÆn_vis½ydéTeTottamry³ktþaCaeRcIn dUcCa 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kMlaMgBlkmµeTA[vis½ydéTeTot CaBiessvis½y]sSahkmµ eTs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cMnIGaharsRmab;RbCaCn eQICafamBl nigdMNaMEdlGacplitCaGal;kul nigeRbgrMG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sBa¢½ysRmab;vinieyaK]sSahkmµ b¤eTs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TIpSarsRmab;plitpl]sSahkm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cMNUlEdl)anBIkarnaMecj nigedIm,IbþÚrnwgkarnaMc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vtßúFatuedImsRmab;plitplksikmµEkéc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kEnøgkargardl;ksik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suxPaB nigEfrkSabrisßanl¥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arsikSaeRbobeFobRbeTsEdleFVIeLIgedayFnaKaBiPBelak)anbBa¢ak;fa karGPivDÆn_]sSahkmµ énRbeTsGasIuGeKñy_RtUv)annaMmuxedaykarGPivDÆn_ksikm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orld Bank , 1993)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imon R1"/>
              </a:rPr>
              <a:t>sUmGrKuNeRcIn¡¡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02:41:12Z</dcterms:created>
  <dc:creator>khc</dc:creator>
  <dc:description/>
  <dc:language>en-US</dc:language>
  <cp:lastModifiedBy>khc</cp:lastModifiedBy>
  <dcterms:modified xsi:type="dcterms:W3CDTF">2011-08-09T02:56:19Z</dcterms:modified>
  <cp:revision>9</cp:revision>
  <dc:subject/>
  <dc:title>emeronTI6³ tYnaTIénkarGPivDÆn_ksikmµenA km&lt;úCa</dc:title>
</cp:coreProperties>
</file>