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BFF2-627F-4A6B-9B12-8AD95CA2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913A-C4F0-4A05-A88B-22A5BFD4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BE07-C802-406D-BD9A-324E4E6C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88E5-D9AD-4D7F-8B98-52E1838D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9764-796C-42DE-BFDF-E875C95D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D62C-53A7-49DC-8EDE-9C250B9F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1703-6300-4E9E-A4D9-3861C909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9F3D-8152-4ECC-B7F5-C4684CFB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4C5E-9767-42A1-85C7-84B5F552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01A0-A65C-4993-9084-07856866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E128-6FC9-4A8A-8BAA-2A2D184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058C-9422-4681-9EC8-C0C09307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2A26-0F1D-473C-93BF-4DA67B0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1B6A-13AD-4E7E-BC3E-76DDD4B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1F3E-9379-42FD-A1C1-76C1F1FA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3E03-7BA5-4028-A10E-F8F25B1B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0D25-EC10-45DD-89CE-EB55C655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0792-11C7-41A6-90FE-57812146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26BF-B1B7-4030-81AF-972FF49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0FB2-81E1-4505-A546-97D93E11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3D80-89B2-42F4-BBAD-FBB760BA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5BA4-EFAF-4C1C-8339-EC2016B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02EB-14E3-41BB-9E99-E7B9B4A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4DE3-792A-4815-B8B7-A843FD9F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67A2-4B88-4556-A7EC-BA9D175F7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DE00-53CD-448E-BEA2-5C298B54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412640"/>
            <a:ext cx="8893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900" spc="-1" strike="noStrike">
                <a:solidFill>
                  <a:srgbClr val="ff0000"/>
                </a:solidFill>
                <a:latin typeface="Castellar"/>
              </a:rPr>
              <a:t>L’analyse urbain</a:t>
            </a:r>
            <a:endParaRPr b="1" lang="en-US" sz="10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Garamond"/>
              </a:rPr>
              <a:t>Il y ‘a 4phases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56000" y="206028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Garamond"/>
              </a:rPr>
              <a:t>Identification de sit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341360"/>
            <a:ext cx="0" cy="50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3493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285264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Analyse morpholo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29080" y="371628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Analyse fonctionne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3960" y="4581360"/>
            <a:ext cx="39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Paysage urb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28464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149720"/>
            <a:ext cx="79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5084640"/>
            <a:ext cx="649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Garamond"/>
              </a:rPr>
              <a:t>Identification de site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Localisation par la ville (situation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Les approches accessibilités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Limites et environnement immédi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4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Aperçus historiqu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5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Actualis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6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Point de repèr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7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Point d’Apple Point d’Appl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8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La topographi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9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limat et orientation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10</a:t>
            </a:r>
            <a:r>
              <a:rPr b="1" lang="fr-FR" sz="28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Forme et dimension du sit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Garamond"/>
              </a:rPr>
              <a:t>Analyse morphologiqu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viair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parcellair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BATI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DES ESPAS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A TRAM DES ESPASE VE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Garamond"/>
              </a:rPr>
              <a:t>Analyse fonctionnelle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ypologie d’habit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ypologie des équipemen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ypologie des commerc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Garamond"/>
              </a:rPr>
              <a:t>Le paysage urbain</a:t>
            </a:r>
            <a:r>
              <a:rPr b="1" lang="fr-FR" sz="4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0" lang="fr-FR" sz="32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es contou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Les groupement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8:56Z</dcterms:created>
  <dc:creator>ferdi tahar</dc:creator>
  <dc:description/>
  <dc:language>en-US</dc:language>
  <cp:lastModifiedBy>SWEET</cp:lastModifiedBy>
  <dcterms:modified xsi:type="dcterms:W3CDTF">2009-02-24T23:41:16Z</dcterms:modified>
  <cp:revision>8</cp:revision>
  <dc:subject/>
  <dc:title>Il y ‘a 4phases</dc:title>
</cp:coreProperties>
</file>