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5FB1-CD19-4053-AD78-02A3B805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503B-D739-4984-B48E-15C4780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3ED4-209D-4632-85EF-243E0EBC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F78C-8098-4228-893A-B34DF8F3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8AD5-4BFA-44B1-B48A-67F1DC18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93BD-BFAF-4FB1-8922-1D86CC3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733B-DD2D-46E1-BB89-3692A94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E3B-9FA0-4BE8-91E0-62436F4E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B966-F876-40E6-ABFC-069567B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74BC-077C-416F-9DED-F4266CD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2D2-6418-4291-A8A9-033ACA3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7EEF-D753-46D3-AEC8-2D7FD1D5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CAE-A8C3-4B21-B0F4-662C721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F386-7E31-4CA4-B005-F83D47EB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A46-B225-48B7-8EAB-84C13B2B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EA90-58EE-4170-BA86-312B1000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5129-2E21-44C2-919D-F02BF07B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8339-2E9A-419C-A9BC-AE4D318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E510-AE2A-4921-BD33-B1E0827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180E-81D1-41E3-AC65-231ACB4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AD33-F85B-4E81-9D25-47CBCE1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97BC-D4B6-4113-B2FE-05DE848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184C-331A-458B-85D9-3513B56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F881-2897-4223-856F-BFA5ED1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6B4-8E93-4FF2-938A-F2CB141B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3CE-01DB-4C18-895D-01AF2FE7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8893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900" spc="-1" strike="noStrike">
                <a:solidFill>
                  <a:srgbClr val="ff0000"/>
                </a:solidFill>
                <a:latin typeface="Castellar"/>
              </a:rPr>
              <a:t>L’analyse urbain</a:t>
            </a:r>
            <a:endParaRPr b="1" lang="en-US" sz="10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Garamond"/>
              </a:rPr>
              <a:t>Il y ‘a 4phases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56000" y="206028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Garamond"/>
              </a:rPr>
              <a:t>Identification de sit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341360"/>
            <a:ext cx="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3493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285264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Analyse morph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9080" y="371628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Analyse fonctionne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3960" y="4581360"/>
            <a:ext cx="39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Paysage urb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28464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149720"/>
            <a:ext cx="79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5084640"/>
            <a:ext cx="649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Garamond"/>
              </a:rPr>
              <a:t>Identification de site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ocalisation par la ville (situation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es approches accessibilités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imites et environnement immédi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perçus historiqu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5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ctualis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6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oint de repè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7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oint d’Apple Point d’Ap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8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a topograph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9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limat et orientation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10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Forme et dimension du sit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Analyse morphologiqu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viair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parcellai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BATI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DES ESPAS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DES ESPASE VE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Garamond"/>
              </a:rPr>
              <a:t>Analyse fonctionnelle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’habit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es équipe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es commerc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Le paysage urbain</a:t>
            </a: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es contou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es groupement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8:56Z</dcterms:created>
  <dc:creator>ferdi tahar</dc:creator>
  <dc:description/>
  <dc:language>en-US</dc:language>
  <cp:lastModifiedBy>SWEET</cp:lastModifiedBy>
  <dcterms:modified xsi:type="dcterms:W3CDTF">2009-02-24T23:41:16Z</dcterms:modified>
  <cp:revision>8</cp:revision>
  <dc:subject/>
  <dc:title>Il y ‘a 4phases</dc:title>
</cp:coreProperties>
</file>