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55F-6293-42EF-A1F2-619E76F12F9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E87-C7C5-4808-8CD3-D341A145C7F3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744-D7F1-4E84-82EA-93012A9BA69C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FA1-1763-4D9E-B2BC-F46B3C31A398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D62-1B43-4622-B939-5D5E10A781A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A3E-C30C-48D7-9A7D-B5A141F5C23C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F0A7-8057-4C6E-9FF2-61F6CAB9A294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B28D-0B77-4AD3-A580-B5EB5C00B44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1301-1452-432A-AC7E-4192056293B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9FEA-7BB3-4250-90D1-F5A12A3C2DC9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C6EE-AB32-4F7F-8C27-4EFA12CFE74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5F1-39B6-4EEC-97CB-4716207AB31C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B22-AEFA-4121-AB2D-995434C3FC2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D793-B289-46A4-B2A1-97F76A34D56A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7D6-538F-4FAE-8DBA-9187BB252C5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57B0-B04A-4A8E-BFF0-F43C421FF7C4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747-D9A2-441B-907D-285E79ABB88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07D-21A2-454C-9739-67943BF166D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630-B494-45CE-8E7B-5B40DF8D355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0BF-7380-4DD2-B890-F6ED5021F94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DD9-5622-4903-8E00-0FD8C4D677B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A597-5BE1-4CFF-801A-3E918F1414C1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093C-714C-4143-AE08-28768BD1598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151-96C5-4171-9342-49C154A1BBF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F131-483F-43CE-8577-10C8CEE9BB8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B02-3A97-4D33-85F9-78C298C4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29A-7A46-42B3-8133-3D85193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EB1-F6EC-41A9-9F2D-D88B50D1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167-4080-4CCE-955F-E17EDCB7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64D-4BE1-4791-961D-6979A702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88D-CE2F-48C3-8BEC-5730349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EB7-B90D-4D1B-8B32-B9A25CE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E05-BC90-487A-9843-1DE2EC6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3A0-DD8C-4387-AA0F-D67E036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8FD-9F89-4EE4-9120-76FFB5D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F9D-E4CF-4DC2-B079-34001A1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953-4DCE-46B8-AA7D-55C95E8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8469-6207-442A-BF9B-51548DE9164F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549360"/>
            <a:ext cx="856944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al mij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ijgezelle vriendinn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kjhlj"/>
          <p:cNvPicPr/>
          <p:nvPr/>
        </p:nvPicPr>
        <p:blipFill>
          <a:blip r:embed="rId1"/>
          <a:stretch/>
        </p:blipFill>
        <p:spPr>
          <a:xfrm>
            <a:off x="2627280" y="2063880"/>
            <a:ext cx="6516720" cy="479412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79280" y="2276640"/>
            <a:ext cx="230508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eddy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Fredd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79280" y="0"/>
            <a:ext cx="896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e stralende glimlach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iedereen smelt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nuniform"/>
          <p:cNvPicPr/>
          <p:nvPr/>
        </p:nvPicPr>
        <p:blipFill>
          <a:blip r:embed="rId1"/>
          <a:stretch/>
        </p:blipFill>
        <p:spPr>
          <a:xfrm>
            <a:off x="0" y="1557360"/>
            <a:ext cx="4689360" cy="5300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859280" y="3860640"/>
            <a:ext cx="428472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einrich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79280" y="115920"/>
            <a:ext cx="878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et een ijzeren disciplin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hhk"/>
          <p:cNvPicPr/>
          <p:nvPr/>
        </p:nvPicPr>
        <p:blipFill>
          <a:blip r:embed="rId1"/>
          <a:stretch/>
        </p:blipFill>
        <p:spPr>
          <a:xfrm>
            <a:off x="0" y="0"/>
            <a:ext cx="4025880" cy="63500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414036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tti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4500720" y="2133720"/>
            <a:ext cx="41749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Zeer gesteld op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roperheid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eoenjoysthesun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445284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179280" y="189000"/>
            <a:ext cx="180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enk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79280" y="4581360"/>
            <a:ext cx="8964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taat open voor zij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ouwelijke kan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eoinoutfit"/>
          <p:cNvPicPr/>
          <p:nvPr/>
        </p:nvPicPr>
        <p:blipFill>
          <a:blip r:embed="rId1"/>
          <a:stretch/>
        </p:blipFill>
        <p:spPr>
          <a:xfrm>
            <a:off x="0" y="1197000"/>
            <a:ext cx="4486320" cy="5661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4643280" y="4076640"/>
            <a:ext cx="450072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Jean-Pierr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179280" y="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het iets ruigere werk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eossources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179280" y="3284640"/>
            <a:ext cx="4032360" cy="33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o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0" y="0"/>
            <a:ext cx="9144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de spirituelen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jkjljljlkkl"/>
          <p:cNvPicPr/>
          <p:nvPr/>
        </p:nvPicPr>
        <p:blipFill>
          <a:blip r:embed="rId1"/>
          <a:stretch/>
        </p:blipFill>
        <p:spPr>
          <a:xfrm>
            <a:off x="0" y="0"/>
            <a:ext cx="7236000" cy="450864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7308720" y="0"/>
            <a:ext cx="183528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od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79280" y="4653000"/>
            <a:ext cx="896472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modebewuste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whitetrash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516096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179280" y="189000"/>
            <a:ext cx="2305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eorg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79280" y="5373720"/>
            <a:ext cx="8964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niet aan verkwisting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wtf101"/>
          <p:cNvPicPr/>
          <p:nvPr/>
        </p:nvPicPr>
        <p:blipFill>
          <a:blip r:embed="rId1"/>
          <a:stretch/>
        </p:blipFill>
        <p:spPr>
          <a:xfrm>
            <a:off x="0" y="0"/>
            <a:ext cx="6084720" cy="438156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6227640" y="189000"/>
            <a:ext cx="2665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ar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79280" y="4508640"/>
            <a:ext cx="896472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k vermoed wel dat hij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iet zo voor de vrouwen 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dan heb ik no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en paar ech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artyanimal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24000" y="333360"/>
            <a:ext cx="864072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ier nog enkel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ijgezelle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de aanbied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needxtc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250920" y="5661000"/>
            <a:ext cx="86421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o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arty"/>
          <p:cNvPicPr/>
          <p:nvPr/>
        </p:nvPicPr>
        <p:blipFill>
          <a:blip r:embed="rId1"/>
          <a:stretch/>
        </p:blipFill>
        <p:spPr>
          <a:xfrm>
            <a:off x="1692360" y="126828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179280" y="0"/>
            <a:ext cx="8640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are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artyon"/>
          <p:cNvPicPr/>
          <p:nvPr/>
        </p:nvPicPr>
        <p:blipFill>
          <a:blip r:embed="rId1"/>
          <a:stretch/>
        </p:blipFill>
        <p:spPr>
          <a:xfrm>
            <a:off x="0" y="1417680"/>
            <a:ext cx="7885080" cy="54403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79280" y="189000"/>
            <a:ext cx="878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r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79280" y="189000"/>
            <a:ext cx="871380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helaas is d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lgende sinds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ort beze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jhjkhlh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250920" y="4941720"/>
            <a:ext cx="8642160" cy="17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rti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5_pics_143169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843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250920" y="260280"/>
            <a:ext cx="295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O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179280" y="5013360"/>
            <a:ext cx="8964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unstzinnig en spanning verzekerd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bittoofat"/>
          <p:cNvPicPr/>
          <p:nvPr/>
        </p:nvPicPr>
        <p:blipFill>
          <a:blip r:embed="rId1"/>
          <a:stretch/>
        </p:blipFill>
        <p:spPr>
          <a:xfrm>
            <a:off x="0" y="0"/>
            <a:ext cx="6443640" cy="4253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6588000" y="404640"/>
            <a:ext cx="255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tefa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50920" y="4365720"/>
            <a:ext cx="889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voor romantisch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ondritt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twork"/>
          <p:cNvPicPr/>
          <p:nvPr/>
        </p:nvPicPr>
        <p:blipFill>
          <a:blip r:embed="rId1"/>
          <a:stretch/>
        </p:blipFill>
        <p:spPr>
          <a:xfrm>
            <a:off x="2793960" y="209556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79280" y="4653000"/>
            <a:ext cx="23767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r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250920" y="189000"/>
            <a:ext cx="889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alle klusjes aan hu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funny"/>
          <p:cNvPicPr/>
          <p:nvPr/>
        </p:nvPicPr>
        <p:blipFill>
          <a:blip r:embed="rId1"/>
          <a:stretch/>
        </p:blipFill>
        <p:spPr>
          <a:xfrm>
            <a:off x="0" y="1959120"/>
            <a:ext cx="6012000" cy="489888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6227640" y="4581360"/>
            <a:ext cx="2737080" cy="20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obb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179280" y="189000"/>
            <a:ext cx="896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lolbroek in hu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gggghgjh"/>
          <p:cNvPicPr/>
          <p:nvPr/>
        </p:nvPicPr>
        <p:blipFill>
          <a:blip r:embed="rId1"/>
          <a:stretch/>
        </p:blipFill>
        <p:spPr>
          <a:xfrm>
            <a:off x="0" y="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6948360" y="189000"/>
            <a:ext cx="1944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Jef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179280" y="5084640"/>
            <a:ext cx="8964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e sexy voor woord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hhhhhh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5072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0" y="0"/>
            <a:ext cx="19080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r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ud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79280" y="5157720"/>
            <a:ext cx="8964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wie nog graag een festival doe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jkhjhkjhkjhkjh"/>
          <p:cNvPicPr/>
          <p:nvPr/>
        </p:nvPicPr>
        <p:blipFill>
          <a:blip r:embed="rId1"/>
          <a:stretch/>
        </p:blipFill>
        <p:spPr>
          <a:xfrm>
            <a:off x="4822920" y="0"/>
            <a:ext cx="4321080" cy="5589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250920" y="189000"/>
            <a:ext cx="4249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dier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79280" y="5734080"/>
            <a:ext cx="8964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romanticu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03:36Z</dcterms:created>
  <dc:creator>Timmy</dc:creator>
  <dc:description/>
  <dc:language>en-US</dc:language>
  <cp:lastModifiedBy>F.M.G. van den Dobbelsteen</cp:lastModifiedBy>
  <dcterms:modified xsi:type="dcterms:W3CDTF">2008-10-27T14:28:23Z</dcterms:modified>
  <cp:revision>7</cp:revision>
  <dc:subject/>
  <dc:title>Dia 1</dc:title>
</cp:coreProperties>
</file>