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3D4B-AAED-41C4-A3B5-4409EEF95BAF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6B34-9752-4647-97A8-B06F5B692FBE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56E0-65B1-4E2D-A323-1DFF9E2B0ADC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8CCC-3DCD-413C-96FA-240A8964978E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3862-C9B5-486E-8061-949E09B6807A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94FA-DBE0-43AE-B0A9-8B32A25B207E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3EC1-011C-437E-8F2E-0FE4D34DC737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5F1E-E29C-4C1F-AE1C-3372FFD27B2D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C5CD-8AC0-4BAA-BCED-D73FA92918E6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EE5F-8794-4B6B-8C7F-34D9CA54C2DB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F860-F5D1-4531-9F52-EE9048BFF00B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9EDF-2D9B-4277-BC4A-D59E122C4E8B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7453-B5A5-4D17-9EDA-F16A3C113388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ED32-698A-4F4E-BF98-A6ACA4A93CB1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395E-E246-43DD-98D4-AA0F4E2BBBC6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6F73-805A-4178-B62E-4C23A4E3283A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06E8-4D6F-456B-AF22-D52356D21A03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BC22-DA25-464B-9084-8723DCA42102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9721-9220-4954-B995-950BEB0FAC7F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9665-8585-4D02-BC6C-191E165F05AF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06AE-182B-4977-AD72-AB98E9E4AB92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8F2C-3AF4-4AD1-AEF7-EAE263B8BB51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6C16-712F-444A-92B1-B94ED3035AD4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BFAB-E6E1-4F71-8711-B4D85EDEB01A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BB1B-A544-4B21-AD46-3BADD0BF2AD9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CAF-7B55-4998-9028-CF72A215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8E4-D296-45ED-8089-4E93273C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BF1-131D-4B09-9226-68063358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D54-4CB1-4D40-A477-EC2150B3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81A-A95B-48C6-BB72-8241B250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409-5149-494E-85F7-DB6730BA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369-C10A-4907-B6C1-0BF15650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E44-4B50-477D-A10B-6538DB5C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DE9-F084-4CBF-921C-AD1AABAE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3E6-0FF4-4A18-9434-7CCE140C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7F0-03C1-4D46-B953-CE7AA877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3C9-9803-4AE3-BEE6-2758C841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9DD7-4F6F-49F9-AAF4-CF38D9CA7AFB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95280" y="549360"/>
            <a:ext cx="856944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oor al mijn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rijgezelle vriendinne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kjhlj"/>
          <p:cNvPicPr/>
          <p:nvPr/>
        </p:nvPicPr>
        <p:blipFill>
          <a:blip r:embed="rId1"/>
          <a:stretch/>
        </p:blipFill>
        <p:spPr>
          <a:xfrm>
            <a:off x="2627280" y="2063880"/>
            <a:ext cx="6516720" cy="479412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 txBox="1"/>
          <p:nvPr/>
        </p:nvSpPr>
        <p:spPr>
          <a:xfrm>
            <a:off x="179280" y="2276640"/>
            <a:ext cx="230508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eddy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&amp;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Freddy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179280" y="0"/>
            <a:ext cx="896472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ie stralende glimlach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oet iedereen smelten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inuniform"/>
          <p:cNvPicPr/>
          <p:nvPr/>
        </p:nvPicPr>
        <p:blipFill>
          <a:blip r:embed="rId1"/>
          <a:stretch/>
        </p:blipFill>
        <p:spPr>
          <a:xfrm>
            <a:off x="0" y="1557360"/>
            <a:ext cx="4689360" cy="530064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>
            <a:off x="4859280" y="3860640"/>
            <a:ext cx="4284720" cy="28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Heinrich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179280" y="115920"/>
            <a:ext cx="878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et een ijzeren disciplin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jhhk"/>
          <p:cNvPicPr/>
          <p:nvPr/>
        </p:nvPicPr>
        <p:blipFill>
          <a:blip r:embed="rId1"/>
          <a:stretch/>
        </p:blipFill>
        <p:spPr>
          <a:xfrm>
            <a:off x="0" y="0"/>
            <a:ext cx="4025880" cy="635004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4140360" y="189000"/>
            <a:ext cx="482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atti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9" name="WordArt 6"/>
          <p:cNvSpPr txBox="1"/>
          <p:nvPr/>
        </p:nvSpPr>
        <p:spPr>
          <a:xfrm>
            <a:off x="4500720" y="2133720"/>
            <a:ext cx="417492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Zeer gesteld op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roperheid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leoenjoysthesun"/>
          <p:cNvPicPr/>
          <p:nvPr/>
        </p:nvPicPr>
        <p:blipFill>
          <a:blip r:embed="rId1"/>
          <a:stretch/>
        </p:blipFill>
        <p:spPr>
          <a:xfrm>
            <a:off x="2124000" y="0"/>
            <a:ext cx="7020000" cy="4452840"/>
          </a:xfrm>
          <a:prstGeom prst="rect">
            <a:avLst/>
          </a:prstGeom>
          <a:ln w="0">
            <a:noFill/>
          </a:ln>
        </p:spPr>
      </p:pic>
      <p:sp>
        <p:nvSpPr>
          <p:cNvPr id="81" name="WordArt 5"/>
          <p:cNvSpPr txBox="1"/>
          <p:nvPr/>
        </p:nvSpPr>
        <p:spPr>
          <a:xfrm>
            <a:off x="179280" y="189000"/>
            <a:ext cx="1800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Henk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179280" y="4581360"/>
            <a:ext cx="896472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taat open voor zijn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rouwelijke kant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leoinoutfit"/>
          <p:cNvPicPr/>
          <p:nvPr/>
        </p:nvPicPr>
        <p:blipFill>
          <a:blip r:embed="rId1"/>
          <a:stretch/>
        </p:blipFill>
        <p:spPr>
          <a:xfrm>
            <a:off x="0" y="1197000"/>
            <a:ext cx="4486320" cy="5661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4643280" y="4076640"/>
            <a:ext cx="4500720" cy="258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Jean-Pierr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179280" y="0"/>
            <a:ext cx="8785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oor het iets ruigere werk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leossources"/>
          <p:cNvPicPr/>
          <p:nvPr/>
        </p:nvPicPr>
        <p:blipFill>
          <a:blip r:embed="rId1"/>
          <a:stretch/>
        </p:blipFill>
        <p:spPr>
          <a:xfrm>
            <a:off x="4356000" y="1341360"/>
            <a:ext cx="4788000" cy="551664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179280" y="3284640"/>
            <a:ext cx="4032360" cy="33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eo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0" y="0"/>
            <a:ext cx="91440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oor de spirituelen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jkjljljlkkl"/>
          <p:cNvPicPr/>
          <p:nvPr/>
        </p:nvPicPr>
        <p:blipFill>
          <a:blip r:embed="rId1"/>
          <a:stretch/>
        </p:blipFill>
        <p:spPr>
          <a:xfrm>
            <a:off x="0" y="0"/>
            <a:ext cx="7236000" cy="450864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7308720" y="0"/>
            <a:ext cx="1835280" cy="35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od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179280" y="4653000"/>
            <a:ext cx="896472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e modebewuste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whitetrash"/>
          <p:cNvPicPr/>
          <p:nvPr/>
        </p:nvPicPr>
        <p:blipFill>
          <a:blip r:embed="rId1"/>
          <a:stretch/>
        </p:blipFill>
        <p:spPr>
          <a:xfrm>
            <a:off x="2627280" y="0"/>
            <a:ext cx="6516720" cy="5160960"/>
          </a:xfrm>
          <a:prstGeom prst="rect">
            <a:avLst/>
          </a:prstGeom>
          <a:ln w="0">
            <a:noFill/>
          </a:ln>
        </p:spPr>
      </p:pic>
      <p:sp>
        <p:nvSpPr>
          <p:cNvPr id="93" name="WordArt 5"/>
          <p:cNvSpPr txBox="1"/>
          <p:nvPr/>
        </p:nvSpPr>
        <p:spPr>
          <a:xfrm>
            <a:off x="179280" y="189000"/>
            <a:ext cx="2305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Georg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4" name="WordArt 6"/>
          <p:cNvSpPr txBox="1"/>
          <p:nvPr/>
        </p:nvSpPr>
        <p:spPr>
          <a:xfrm>
            <a:off x="179280" y="5373720"/>
            <a:ext cx="8964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oet niet aan verkwisting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wtf101"/>
          <p:cNvPicPr/>
          <p:nvPr/>
        </p:nvPicPr>
        <p:blipFill>
          <a:blip r:embed="rId1"/>
          <a:stretch/>
        </p:blipFill>
        <p:spPr>
          <a:xfrm>
            <a:off x="0" y="0"/>
            <a:ext cx="6084720" cy="4381560"/>
          </a:xfrm>
          <a:prstGeom prst="rect">
            <a:avLst/>
          </a:prstGeom>
          <a:ln w="0">
            <a:noFill/>
          </a:ln>
        </p:spPr>
      </p:pic>
      <p:sp>
        <p:nvSpPr>
          <p:cNvPr id="96" name="WordArt 5"/>
          <p:cNvSpPr txBox="1"/>
          <p:nvPr/>
        </p:nvSpPr>
        <p:spPr>
          <a:xfrm>
            <a:off x="6227640" y="189000"/>
            <a:ext cx="26654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art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79280" y="4508640"/>
            <a:ext cx="8964720" cy="23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k vermoed wel dat hij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iet zo voor de vrouwen is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79280" y="189000"/>
            <a:ext cx="8785440" cy="64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En dan heb ik no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een paar echt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artyanimals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24000" y="333360"/>
            <a:ext cx="8640720" cy="62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hier nog enkele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rijgezellen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 de aanbiedi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needxtc"/>
          <p:cNvPicPr/>
          <p:nvPr/>
        </p:nvPicPr>
        <p:blipFill>
          <a:blip r:embed="rId1"/>
          <a:stretch/>
        </p:blipFill>
        <p:spPr>
          <a:xfrm>
            <a:off x="1763640" y="0"/>
            <a:ext cx="7380360" cy="55357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250920" y="5661000"/>
            <a:ext cx="86421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Koe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party"/>
          <p:cNvPicPr/>
          <p:nvPr/>
        </p:nvPicPr>
        <p:blipFill>
          <a:blip r:embed="rId1"/>
          <a:stretch/>
        </p:blipFill>
        <p:spPr>
          <a:xfrm>
            <a:off x="1692360" y="126828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"/>
          <p:cNvSpPr txBox="1"/>
          <p:nvPr/>
        </p:nvSpPr>
        <p:spPr>
          <a:xfrm>
            <a:off x="179280" y="0"/>
            <a:ext cx="8640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Karel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partyon"/>
          <p:cNvPicPr/>
          <p:nvPr/>
        </p:nvPicPr>
        <p:blipFill>
          <a:blip r:embed="rId1"/>
          <a:stretch/>
        </p:blipFill>
        <p:spPr>
          <a:xfrm>
            <a:off x="0" y="1417680"/>
            <a:ext cx="7885080" cy="54403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179280" y="189000"/>
            <a:ext cx="8785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Kri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79280" y="189000"/>
            <a:ext cx="8713800" cy="64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En helaas is de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olgende sinds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kort bezet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jhjkhlh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5"/>
          <p:cNvSpPr txBox="1"/>
          <p:nvPr/>
        </p:nvSpPr>
        <p:spPr>
          <a:xfrm>
            <a:off x="250920" y="4941720"/>
            <a:ext cx="8642160" cy="171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arti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35_pics_143169"/>
          <p:cNvPicPr/>
          <p:nvPr/>
        </p:nvPicPr>
        <p:blipFill>
          <a:blip r:embed="rId1"/>
          <a:stretch/>
        </p:blipFill>
        <p:spPr>
          <a:xfrm>
            <a:off x="3492360" y="0"/>
            <a:ext cx="5651640" cy="48434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250920" y="260280"/>
            <a:ext cx="295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OM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179280" y="5013360"/>
            <a:ext cx="89647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Kunstzinnig en spanning verzekerd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abittoofat"/>
          <p:cNvPicPr/>
          <p:nvPr/>
        </p:nvPicPr>
        <p:blipFill>
          <a:blip r:embed="rId1"/>
          <a:stretch/>
        </p:blipFill>
        <p:spPr>
          <a:xfrm>
            <a:off x="0" y="0"/>
            <a:ext cx="6443640" cy="425304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6588000" y="404640"/>
            <a:ext cx="255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tefa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250920" y="4365720"/>
            <a:ext cx="8893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n voor romantische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ondritten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twork"/>
          <p:cNvPicPr/>
          <p:nvPr/>
        </p:nvPicPr>
        <p:blipFill>
          <a:blip r:embed="rId1"/>
          <a:stretch/>
        </p:blipFill>
        <p:spPr>
          <a:xfrm>
            <a:off x="2793960" y="2095560"/>
            <a:ext cx="6350040" cy="476244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179280" y="4653000"/>
            <a:ext cx="2376720" cy="19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ert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250920" y="189000"/>
            <a:ext cx="8893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oet alle klusjes aan huis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funny"/>
          <p:cNvPicPr/>
          <p:nvPr/>
        </p:nvPicPr>
        <p:blipFill>
          <a:blip r:embed="rId1"/>
          <a:stretch/>
        </p:blipFill>
        <p:spPr>
          <a:xfrm>
            <a:off x="0" y="1959120"/>
            <a:ext cx="6012000" cy="4898880"/>
          </a:xfrm>
          <a:prstGeom prst="rect">
            <a:avLst/>
          </a:prstGeom>
          <a:ln w="0">
            <a:noFill/>
          </a:ln>
        </p:spPr>
      </p:pic>
      <p:sp>
        <p:nvSpPr>
          <p:cNvPr id="60" name="WordArt 5"/>
          <p:cNvSpPr txBox="1"/>
          <p:nvPr/>
        </p:nvSpPr>
        <p:spPr>
          <a:xfrm>
            <a:off x="6227640" y="4581360"/>
            <a:ext cx="2737080" cy="207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obby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179280" y="189000"/>
            <a:ext cx="896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e lolbroek in huis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ggggghgjh"/>
          <p:cNvPicPr/>
          <p:nvPr/>
        </p:nvPicPr>
        <p:blipFill>
          <a:blip r:embed="rId1"/>
          <a:stretch/>
        </p:blipFill>
        <p:spPr>
          <a:xfrm>
            <a:off x="0" y="0"/>
            <a:ext cx="6588000" cy="494028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6948360" y="189000"/>
            <a:ext cx="1944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Jef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179280" y="5084640"/>
            <a:ext cx="896472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e sexy voor woorden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hhhhhh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507204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0" y="0"/>
            <a:ext cx="1908000" cy="450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arc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&amp;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udy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179280" y="5157720"/>
            <a:ext cx="8964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Voor wie nog graag een festival doet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jkhjhkjhkjhkjh"/>
          <p:cNvPicPr/>
          <p:nvPr/>
        </p:nvPicPr>
        <p:blipFill>
          <a:blip r:embed="rId1"/>
          <a:stretch/>
        </p:blipFill>
        <p:spPr>
          <a:xfrm>
            <a:off x="4822920" y="0"/>
            <a:ext cx="4321080" cy="5589720"/>
          </a:xfrm>
          <a:prstGeom prst="rect">
            <a:avLst/>
          </a:prstGeom>
          <a:ln w="0">
            <a:noFill/>
          </a:ln>
        </p:spPr>
      </p:pic>
      <p:sp>
        <p:nvSpPr>
          <p:cNvPr id="69" name="WordArt 5"/>
          <p:cNvSpPr txBox="1"/>
          <p:nvPr/>
        </p:nvSpPr>
        <p:spPr>
          <a:xfrm>
            <a:off x="250920" y="189000"/>
            <a:ext cx="4249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idier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179280" y="5734080"/>
            <a:ext cx="89647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e romanticus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22:03:36Z</dcterms:created>
  <dc:creator>Timmy</dc:creator>
  <dc:description/>
  <dc:language>en-US</dc:language>
  <cp:lastModifiedBy>F.M.G. van den Dobbelsteen</cp:lastModifiedBy>
  <dcterms:modified xsi:type="dcterms:W3CDTF">2008-10-27T14:28:23Z</dcterms:modified>
  <cp:revision>7</cp:revision>
  <dc:subject/>
  <dc:title>Dia 1</dc:title>
</cp:coreProperties>
</file>