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Pat%20Boone%20Love%20Letters.wav" ContentType="audio/x-wav"/>
  <Override PartName="/ppt/media/image6.jpeg" ContentType="image/jpeg"/>
  <Override PartName="/ppt/media/image5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E37-0560-4AA4-9FCC-E7CECD2C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141-CD1F-4FE0-9AB9-9DE485A0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769-65C0-4062-A855-2D795BEB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8A0-4EAA-410F-9FFD-C2AC712B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234-5E93-4A28-ACA7-6B69AA2C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1CD-D5BD-4EAD-95AD-EF9AB075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660-A7C0-4F41-8142-5B2DCFB4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6E5-548D-445E-959D-65FF0849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C8C-456A-460B-AAE2-66D431A9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926-EA2C-4058-A4FA-9F1AF2E0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3AA-136F-438B-B35C-09401A62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B3B-DA6F-4543-99F4-A415A3F6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A197-B537-4E86-962B-94ACE8957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t%20Boone%20Love%20Letter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b3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446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87280" y="1052640"/>
            <a:ext cx="6553440" cy="446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40464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F TE DROMEN...............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5805360"/>
            <a:ext cx="194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Muziek:Pat Bo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Love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2360" y="5877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  <p:sndAc>
      <p:stSnd>
        <p:snd r:embed="rId2" name="Pat%20Boone%20Love%20Letter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79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64720" cy="538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9640" y="765000"/>
            <a:ext cx="8064720" cy="540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akkelijk haalbaar of bijna on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6381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4d6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201080" cy="5759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404640"/>
            <a:ext cx="7201080" cy="5761080"/>
          </a:xfrm>
          <a:prstGeom prst="rect">
            <a:avLst/>
          </a:prstGeom>
          <a:noFill/>
          <a:ln w="38160">
            <a:solidFill>
              <a:srgbClr val="d58c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765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aak ze werk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623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99cc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92"/>
            </a:gs>
            <a:gs pos="100000">
              <a:srgbClr val="b060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11280" y="522936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8c75"/>
                </a:solidFill>
                <a:latin typeface="Arial"/>
              </a:rPr>
              <a:t>Wensen en hoop zijn niets totdat jij de eerste stap maakt om er wel iets van t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76320">
            <a:solidFill>
              <a:srgbClr val="d58c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d58c75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0d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1904" t="1575" r="1904" b="1575"/>
          <a:stretch/>
        </p:blipFill>
        <p:spPr>
          <a:xfrm>
            <a:off x="0" y="2428920"/>
            <a:ext cx="3637080" cy="44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1904" t="1575" r="1904" b="1575"/>
          <a:stretch/>
        </p:blipFill>
        <p:spPr>
          <a:xfrm>
            <a:off x="2700360" y="1197000"/>
            <a:ext cx="3637080" cy="442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1904" t="1575" r="1904" b="1575"/>
          <a:stretch/>
        </p:blipFill>
        <p:spPr>
          <a:xfrm>
            <a:off x="5506920" y="0"/>
            <a:ext cx="36370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4762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f te dromen....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609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9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772" t="2193" r="1772" b="2193"/>
          <a:stretch/>
        </p:blipFill>
        <p:spPr>
          <a:xfrm>
            <a:off x="539640" y="260280"/>
            <a:ext cx="7920000" cy="63421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9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772" t="2127" r="1772" b="2127"/>
          <a:stretch/>
        </p:blipFill>
        <p:spPr>
          <a:xfrm>
            <a:off x="1258920" y="692280"/>
            <a:ext cx="6337440" cy="5238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58920" y="692280"/>
            <a:ext cx="6337440" cy="525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587700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dat alleen door te dromen je ooit zal ontdek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54338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b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814" t="2362" r="2814" b="2362"/>
          <a:stretch/>
        </p:blipFill>
        <p:spPr>
          <a:xfrm>
            <a:off x="0" y="0"/>
            <a:ext cx="2416320" cy="2905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2814" t="2362" r="2814" b="2362"/>
          <a:stretch/>
        </p:blipFill>
        <p:spPr>
          <a:xfrm>
            <a:off x="2484360" y="981000"/>
            <a:ext cx="4073760" cy="489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2814" t="2362" r="2814" b="2362"/>
          <a:stretch/>
        </p:blipFill>
        <p:spPr>
          <a:xfrm>
            <a:off x="6727680" y="3952800"/>
            <a:ext cx="241632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0" y="4149360"/>
            <a:ext cx="212400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236000" y="0"/>
            <a:ext cx="1908000" cy="24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71640" y="4220640"/>
            <a:ext cx="180000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372360" y="333360"/>
            <a:ext cx="172872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54936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95008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 je bent, wat je wilt en wat je kan do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8c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534960"/>
            <a:ext cx="8496000" cy="578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549360"/>
            <a:ext cx="849600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62064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s niet bang om risico’s te n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0720" y="638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9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416720" cy="5935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640" y="476280"/>
            <a:ext cx="7416720" cy="59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47628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ac6"/>
                </a:solidFill>
                <a:latin typeface="Arial"/>
              </a:rPr>
              <a:t>om betrokken te raken, om een verbintenis te maken</a:t>
            </a:r>
            <a:r>
              <a:rPr b="0" lang="en-US" sz="1800" spc="-1" strike="noStrike">
                <a:solidFill>
                  <a:srgbClr val="c8cac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8cac6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8c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05440" cy="616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76500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 alles wat nodig is om jouw dromen werkelijkheid te laten wo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5877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9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4578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76720" y="3933720"/>
            <a:ext cx="35989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ieën   en aspiraties te onderzoe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484280"/>
            <a:ext cx="2808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t niets je tegenhouden om je wildste wens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2279520"/>
            <a:ext cx="4859280" cy="4578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88000" y="620640"/>
            <a:ext cx="4356000" cy="583272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1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8a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56360" y="623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7093080" y="6021360"/>
            <a:ext cx="1533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ylvi@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27640" y="2133720"/>
            <a:ext cx="1552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ind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08000" y="558972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c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38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64000" y="0"/>
            <a:ext cx="24321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867280" y="1916280"/>
            <a:ext cx="2432160" cy="3047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711840" y="3809880"/>
            <a:ext cx="243216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292720" y="5950080"/>
            <a:ext cx="15336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ylvi@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48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196" t="1181" r="1196" b="1181"/>
          <a:stretch/>
        </p:blipFill>
        <p:spPr>
          <a:xfrm>
            <a:off x="0" y="0"/>
            <a:ext cx="4379760" cy="443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196" t="1181" r="1196" b="1181"/>
          <a:stretch/>
        </p:blipFill>
        <p:spPr>
          <a:xfrm>
            <a:off x="2340000" y="1268280"/>
            <a:ext cx="4379760" cy="443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196" t="1181" r="1196" b="1181"/>
          <a:stretch/>
        </p:blipFill>
        <p:spPr>
          <a:xfrm>
            <a:off x="4764240" y="2421000"/>
            <a:ext cx="4379760" cy="443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00720" y="0"/>
            <a:ext cx="46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s niet bang om groots te dromen en om je dromen te volg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580536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335560" cy="666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03280" y="7542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028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 ze je ook naar toe zullen le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19640" y="5661000"/>
            <a:ext cx="153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ylvi@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476280"/>
            <a:ext cx="244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je ogen voor hun schoonhei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je geest voor hun betover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je hart voor hun mogelijk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602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169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921800" cy="527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765000"/>
            <a:ext cx="7920000" cy="5256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f te dromen....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5300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8c8c8"/>
          </a:solidFill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256360" cy="4984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8000" y="836640"/>
            <a:ext cx="5256360" cy="4968720"/>
          </a:xfrm>
          <a:prstGeom prst="rect">
            <a:avLst/>
          </a:prstGeom>
          <a:noFill/>
          <a:ln w="63360">
            <a:solidFill>
              <a:srgbClr val="1b0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5805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ze nu in kleur zijn of in zwart~w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0a1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893880"/>
            <a:ext cx="6121440" cy="4897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765000"/>
            <a:ext cx="6408720" cy="5185080"/>
          </a:xfrm>
          <a:prstGeom prst="rect">
            <a:avLst/>
          </a:prstGeom>
          <a:noFill/>
          <a:ln w="76320">
            <a:solidFill>
              <a:srgbClr val="b9b3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609300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ze nu klein of groot zijn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6237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10:43:22Z</dcterms:created>
  <dc:creator>sylvi@</dc:creator>
  <dc:description/>
  <dc:language>en-US</dc:language>
  <cp:lastModifiedBy>Smets</cp:lastModifiedBy>
  <dcterms:modified xsi:type="dcterms:W3CDTF">2008-09-05T17:33:21Z</dcterms:modified>
  <cp:revision>7</cp:revision>
  <dc:subject/>
  <dc:title>Dia 1</dc:title>
</cp:coreProperties>
</file>