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Pat%20Boone%20Love%20Letters.wav" ContentType="audio/x-wav"/>
  <Override PartName="/ppt/media/image6.jpeg" ContentType="image/jpeg"/>
  <Override PartName="/ppt/media/image5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E42-3D15-4051-9056-8234A811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EE0-C6C2-4A73-B2AF-95DA65F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B6A-E6B8-4E2C-9328-F14A45AE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66AF-9E3C-4D6A-A228-EEB01FF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6EA-EA05-47E7-99D1-B486FEC9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B93-D5CC-4D37-96F4-BBAF3982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0E9-5708-4CD5-B8B0-47B84DA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A28-FE2E-4B99-8850-73E47C0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C69-4C50-4DA5-93D2-15F777BA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DEA-9193-4296-842E-580D0CE9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13D-BDBD-4499-8275-24EEC0ED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238-D25F-4FB0-90B1-8565E26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0279-C689-4A83-B0D1-E7841BFF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at%20Boone%20Love%20Letter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b3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446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87280" y="1052640"/>
            <a:ext cx="6553440" cy="4464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40464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RF TE DROMEN..............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5805360"/>
            <a:ext cx="194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Muziek:Pat Bo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Love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58770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  <p:sndAc>
      <p:stSnd>
        <p:snd r:embed="rId2" name="Pat%20Boone%20Love%20Letter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79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064720" cy="538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765000"/>
            <a:ext cx="8064720" cy="540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akkelijk haalbaar of bijna on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6381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4d6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01080" cy="575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404640"/>
            <a:ext cx="7201080" cy="5761080"/>
          </a:xfrm>
          <a:prstGeom prst="rect">
            <a:avLst/>
          </a:prstGeom>
          <a:noFill/>
          <a:ln w="38160">
            <a:solidFill>
              <a:srgbClr val="d58c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765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Maak ze werk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623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99cc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292"/>
            </a:gs>
            <a:gs pos="100000">
              <a:srgbClr val="b060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11280" y="522936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8c75"/>
                </a:solidFill>
                <a:latin typeface="Arial"/>
              </a:rPr>
              <a:t>Wensen en hoop zijn niets totdat jij de eerste stap maakt om er wel iets van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76320">
            <a:solidFill>
              <a:srgbClr val="d58c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1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d58c75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1904" t="1575" r="1904" b="1575"/>
          <a:stretch/>
        </p:blipFill>
        <p:spPr>
          <a:xfrm>
            <a:off x="0" y="2428920"/>
            <a:ext cx="3637080" cy="4429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1904" t="1575" r="1904" b="1575"/>
          <a:stretch/>
        </p:blipFill>
        <p:spPr>
          <a:xfrm>
            <a:off x="2700360" y="1197000"/>
            <a:ext cx="3637080" cy="4429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rcRect l="1904" t="1575" r="1904" b="1575"/>
          <a:stretch/>
        </p:blipFill>
        <p:spPr>
          <a:xfrm>
            <a:off x="5506920" y="0"/>
            <a:ext cx="3637080" cy="44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9280" y="476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f te dromen...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609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772" t="2193" r="1772" b="2193"/>
          <a:stretch/>
        </p:blipFill>
        <p:spPr>
          <a:xfrm>
            <a:off x="539640" y="260280"/>
            <a:ext cx="7920000" cy="63421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772" t="2127" r="1772" b="2127"/>
          <a:stretch/>
        </p:blipFill>
        <p:spPr>
          <a:xfrm>
            <a:off x="1258920" y="692280"/>
            <a:ext cx="6337440" cy="523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692280"/>
            <a:ext cx="6337440" cy="5257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877000"/>
            <a:ext cx="64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dat alleen door te dromen je ooit zal ontdek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54338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6b2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814" t="2362" r="2814" b="2362"/>
          <a:stretch/>
        </p:blipFill>
        <p:spPr>
          <a:xfrm>
            <a:off x="0" y="0"/>
            <a:ext cx="2416320" cy="2905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814" t="2362" r="2814" b="2362"/>
          <a:stretch/>
        </p:blipFill>
        <p:spPr>
          <a:xfrm>
            <a:off x="2484360" y="981000"/>
            <a:ext cx="4073760" cy="489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2814" t="2362" r="2814" b="2362"/>
          <a:stretch/>
        </p:blipFill>
        <p:spPr>
          <a:xfrm>
            <a:off x="6727680" y="3952800"/>
            <a:ext cx="2416320" cy="290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 flipV="1">
            <a:off x="0" y="4149360"/>
            <a:ext cx="212400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236000" y="0"/>
            <a:ext cx="1908000" cy="24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71640" y="4220640"/>
            <a:ext cx="180000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372360" y="333360"/>
            <a:ext cx="172872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549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95008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 je bent, wat je wilt en wat je kan do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8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534960"/>
            <a:ext cx="8496000" cy="5788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549360"/>
            <a:ext cx="8496000" cy="575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62064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s niet bang om risico’s te ne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16720" cy="5935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55640" y="476280"/>
            <a:ext cx="7416720" cy="59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4762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ac6"/>
                </a:solidFill>
                <a:latin typeface="Arial"/>
              </a:rPr>
              <a:t>om betrokken te raken, om een verbintenis te maken</a:t>
            </a:r>
            <a:r>
              <a:rPr b="0" lang="en-US" sz="1800" spc="-1" strike="noStrike">
                <a:solidFill>
                  <a:srgbClr val="c8cac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5877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8cac6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8c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05440" cy="616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58920" y="7650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 alles wat nodig is om jouw dromen werkelijkheid te laten wo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587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9d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457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76720" y="3933720"/>
            <a:ext cx="35989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ntasieën   en aspiraties te onderzoe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484280"/>
            <a:ext cx="2808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t niets je tegenhouden om je wildste wens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279520"/>
            <a:ext cx="4859280" cy="4578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88000" y="620640"/>
            <a:ext cx="4356000" cy="58327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8a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56360" y="623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-111240"/>
            <a:ext cx="9144000" cy="6969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7093080" y="6021360"/>
            <a:ext cx="1533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lvi@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7640" y="2133720"/>
            <a:ext cx="15523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ind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08000" y="558972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8c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0"/>
            <a:ext cx="24321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867280" y="1916280"/>
            <a:ext cx="2432160" cy="3047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711840" y="3809880"/>
            <a:ext cx="243216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292720" y="5950080"/>
            <a:ext cx="1533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lvi@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6000">
    <p:wheel spokes="8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48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196" t="1181" r="1196" b="1181"/>
          <a:stretch/>
        </p:blipFill>
        <p:spPr>
          <a:xfrm>
            <a:off x="0" y="0"/>
            <a:ext cx="4379760" cy="443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1196" t="1181" r="1196" b="1181"/>
          <a:stretch/>
        </p:blipFill>
        <p:spPr>
          <a:xfrm>
            <a:off x="2340000" y="1268280"/>
            <a:ext cx="4379760" cy="443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1196" t="1181" r="1196" b="1181"/>
          <a:stretch/>
        </p:blipFill>
        <p:spPr>
          <a:xfrm>
            <a:off x="4764240" y="2421000"/>
            <a:ext cx="4379760" cy="4437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00720" y="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es niet bang om groots te dromen en om je dromen te volg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580536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335560" cy="666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03280" y="7542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0280"/>
            <a:ext cx="89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ze je ook naar toe zullen le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19640" y="5661000"/>
            <a:ext cx="153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ylvi@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476280"/>
            <a:ext cx="244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je ogen voor hun schoonhei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je geest voor hun betovering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je hart voor hun mogelijk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2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169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921800" cy="527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765000"/>
            <a:ext cx="7920000" cy="5256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f te dromen....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5300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8c8c8"/>
          </a:solidFill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836640"/>
            <a:ext cx="5256360" cy="4984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08000" y="836640"/>
            <a:ext cx="5256360" cy="4968720"/>
          </a:xfrm>
          <a:prstGeom prst="rect">
            <a:avLst/>
          </a:prstGeom>
          <a:noFill/>
          <a:ln w="63360">
            <a:solidFill>
              <a:srgbClr val="1b0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805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ze nu in kleur zijn of in zwart~w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537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0a1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893880"/>
            <a:ext cx="6121440" cy="489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765000"/>
            <a:ext cx="6408720" cy="5185080"/>
          </a:xfrm>
          <a:prstGeom prst="rect">
            <a:avLst/>
          </a:prstGeom>
          <a:noFill/>
          <a:ln w="76320">
            <a:solidFill>
              <a:srgbClr val="b9b3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609300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ze nu klein of groot zijn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6237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ylvi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1T10:43:22Z</dcterms:created>
  <dc:creator>sylvi@</dc:creator>
  <dc:description/>
  <dc:language>en-US</dc:language>
  <cp:lastModifiedBy>Smets</cp:lastModifiedBy>
  <dcterms:modified xsi:type="dcterms:W3CDTF">2008-09-05T17:33:21Z</dcterms:modified>
  <cp:revision>7</cp:revision>
  <dc:subject/>
  <dc:title>Dia 1</dc:title>
</cp:coreProperties>
</file>