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89D-A2E4-4739-BFED-A3456D3E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A63-22FC-4A81-9A4D-E6E7625A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9475-E2EB-4A34-835C-F6A2D740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A8E8-CD85-4698-877A-590C4A4C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8A0-760D-4692-8FDD-70804904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39FD-7408-4689-936F-FAA4CB99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FDF-97EB-4BF7-8C5B-CDFDA26E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64E4-DB96-4220-AD65-2B2406BB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3D2-DF2A-4946-9173-19F15E8B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796-4926-4031-B6BA-D2777CD5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6CEF-0B5E-45DB-A5C2-A5D966A6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1C2-4ADD-45B5-894B-0F58683F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BFFE-2734-4519-98DE-481DC67C4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gif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t gebeurt er als grafisch medewerkers zich verv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4680" y="1417680"/>
            <a:ext cx="57150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33720" y="1530360"/>
            <a:ext cx="48765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6840" y="1760400"/>
            <a:ext cx="427032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14680" y="1251000"/>
            <a:ext cx="57150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14680" y="1547640"/>
            <a:ext cx="57150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97160" y="1041480"/>
            <a:ext cx="634968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29000" y="2241720"/>
            <a:ext cx="228600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7480" y="1531800"/>
            <a:ext cx="66294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22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01028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573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373560" y="0"/>
            <a:ext cx="243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81080" y="33480"/>
            <a:ext cx="49644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66880" y="309600"/>
            <a:ext cx="381024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154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16292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7480" y="1490760"/>
            <a:ext cx="66294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30072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345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230040"/>
            <a:ext cx="922032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9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536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74520"/>
            <a:ext cx="91440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334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28840" y="1743120"/>
            <a:ext cx="62863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82440"/>
            <a:ext cx="868680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544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73080"/>
            <a:ext cx="876312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-228600"/>
            <a:ext cx="762012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8188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096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908000" y="602136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14680" y="171360"/>
            <a:ext cx="57150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14680" y="817560"/>
            <a:ext cx="57150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08440" y="1714680"/>
            <a:ext cx="332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82800" y="2143080"/>
            <a:ext cx="3578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0600" y="1819440"/>
            <a:ext cx="476280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9:21:35Z</dcterms:created>
  <dc:creator>qxcrsovr</dc:creator>
  <dc:description/>
  <dc:language>en-US</dc:language>
  <cp:lastModifiedBy>Smets</cp:lastModifiedBy>
  <dcterms:modified xsi:type="dcterms:W3CDTF">2008-09-13T06:33:29Z</dcterms:modified>
  <cp:revision>6</cp:revision>
  <dc:subject/>
  <dc:title>Wenn sich Grafiker langweilen</dc:title>
</cp:coreProperties>
</file>