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C5A-8942-4E98-A902-89308F30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1CF-9741-4E61-B043-F231357D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138-ECB2-4C4B-AADA-7DD1882F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2F8-D901-4445-A1D6-AA26B7A9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5D1-41C7-47BB-819E-4828852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86B-E3E0-4D62-8828-EEC5D37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B1F-9E2B-46BC-9611-7983032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DF4-07B0-486D-A297-360D181B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46D-05CC-485F-876B-1C69308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967-4C84-4E98-9C81-4A2EBF82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17A-5B64-45CB-A761-0E750D1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9CB-7AB6-4348-BAF8-779DA421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C67E4-6596-4DE9-B687-64A1F5F0A1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27BA9-A75E-478F-8600-800A0FBDD010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00:58Z</dcterms:created>
  <dc:creator>최봉수</dc:creator>
  <dc:description/>
  <dc:language>en-US</dc:language>
  <cp:lastModifiedBy>맛있다 군만두</cp:lastModifiedBy>
  <dcterms:modified xsi:type="dcterms:W3CDTF">2023-07-13T09:52:45Z</dcterms:modified>
  <cp:revision>3</cp:revision>
  <dc:subject/>
  <dc:title>슬라이드 1</dc:title>
</cp:coreProperties>
</file>