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4A5D-B2F1-400C-87A3-6BE07FA3F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5591-1EB2-472B-BC41-8D5A0BF9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3861-245D-46E6-807D-F434A291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08CC-FF72-4EDB-AF27-67E90F96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79C9-1AC7-48B9-86F6-45A24253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B34B-8ED6-4D99-BFB5-B3A9A221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DD55-B82A-4DE4-9EDA-BBEBAFF2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C4C5-5763-495B-B848-7D5F22EA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A887-25E3-4A93-941C-99C99E86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2AFF-7B1D-4504-B04A-E469AFAE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FE8C-CEF3-4D45-9495-4314A3CD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CEAC-5133-4502-81AC-884421BE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1CD7F6-977F-4A1D-8580-4651F3D6234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E160F0-6D14-4AA3-8BE5-C26883055550}" type="slidenum"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/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4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4:00:58Z</dcterms:created>
  <dc:creator>최봉수</dc:creator>
  <dc:description/>
  <dc:language>en-US</dc:language>
  <cp:lastModifiedBy>맛있다 군만두</cp:lastModifiedBy>
  <dcterms:modified xsi:type="dcterms:W3CDTF">2023-07-13T09:52:45Z</dcterms:modified>
  <cp:revision>3</cp:revision>
  <dc:subject/>
  <dc:title>슬라이드 1</dc:title>
</cp:coreProperties>
</file>