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Gheorghe%20Zamfir%20-%20O%20mio%20babbino%20caro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5ED8-9E6D-420E-A89F-C78138449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B5E0-98B9-4C1D-AC90-434691E74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A0A1-3161-4BED-BC9E-2F16EFAA5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88A3-A408-44AA-89C4-EFE88EAD0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AABD-5577-4521-AB43-1F2E9F27A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5632-7A86-48D5-8C6B-535C3119C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697E-30E0-474C-A11D-B0CC31404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6151-5E74-48D5-92BA-8B952ACC2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8B59-AA94-489B-8770-31A07AFBD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D2DF-B692-48EA-A7AA-1D2C5D2FA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5156-AB31-450B-824F-00B6EDDA9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F319-EE28-439A-B980-E046DB358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5B33-A07E-4BC6-A2E0-B846C36B1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AC84-BB68-4DDF-886E-2BF72EBF4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AD2D-4814-409E-92BF-A92E5149B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8AE1-99BE-4397-9E5F-87297DC6C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A504-485E-472E-A312-1B9A3F831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82C2-D916-4720-ACC0-E1065B7A2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CE12-B0B5-4B93-86A2-42742E1C0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9C1A-983B-4888-91B3-09291E92B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5B27-E45A-45E2-8E27-36D3EF644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5A24-96D2-47B3-9D38-DE26B6BD0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2D56-9EA1-4500-911D-581642D01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738F-E4D0-4B6F-8CFA-E88C057AD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6A8E-7862-4187-B0E5-D31BB7A2C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0081-0F62-4E08-A2F5-0918D45C3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AC2B-9DDA-40B7-B924-5FF121C5D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8EDC-85CE-4E79-9B74-2507EB349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1D9-2DF3-4398-B353-D27DE4A2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8D1-1FE2-4751-AAD7-F2DAE508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7A4-AF16-4117-BAB0-01F07D69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054-4960-4284-B259-44CC4956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00B-66D3-47A7-9763-09D6DABC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CC60-408C-4838-9592-DF760F0F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B27-5C42-4E96-856A-074D4CBC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F8E0-0527-4D51-8FD1-3B23BF12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46D4-7725-44FC-A04C-D7BF668C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440-80DF-466F-B570-B6F02E24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81F-6FDE-4F6F-8BBE-50E9CD37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315B-5D29-45A0-A8F9-38ADF351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D664-0EFC-440D-B4E9-A68CB5BC9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Gheorghe%20Zamfir%20-%20O%20mio%20babbino%20caro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DSC_0060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000080" y="5143680"/>
            <a:ext cx="57150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rp zonder straten</a:t>
            </a:r>
            <a:endParaRPr b="1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642960" y="1285920"/>
            <a:ext cx="33433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iethoorn</a:t>
            </a:r>
            <a:endParaRPr b="1" lang="en-US" sz="6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8000">
    <p:split dir="out" orient="vert"/>
    <p:sndAc>
      <p:stSnd>
        <p:snd r:embed="rId6" name="Gheorghe%20Zamfir%20-%20O%20mio%20babbino%20car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SC_0694"/>
          <p:cNvPicPr/>
          <p:nvPr/>
        </p:nvPicPr>
        <p:blipFill>
          <a:blip r:embed="rId1"/>
          <a:stretch/>
        </p:blipFill>
        <p:spPr>
          <a:xfrm>
            <a:off x="-304920" y="185760"/>
            <a:ext cx="9753840" cy="6486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IMG_43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IMG_44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IMG_44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IMG_44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IMG_44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IMG_44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IMG_44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IMG_44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IMG_44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IMG_44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G_44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G_44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IMG_44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_44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IMG_44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SC_0688"/>
          <p:cNvPicPr/>
          <p:nvPr/>
        </p:nvPicPr>
        <p:blipFill>
          <a:blip r:embed="rId1"/>
          <a:stretch/>
        </p:blipFill>
        <p:spPr>
          <a:xfrm>
            <a:off x="0" y="189000"/>
            <a:ext cx="9753480" cy="6486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DSC_0692"/>
          <p:cNvPicPr/>
          <p:nvPr/>
        </p:nvPicPr>
        <p:blipFill>
          <a:blip r:embed="rId1"/>
          <a:stretch/>
        </p:blipFill>
        <p:spPr>
          <a:xfrm>
            <a:off x="-304920" y="185760"/>
            <a:ext cx="9753840" cy="6486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DSC_0083"/>
          <p:cNvPicPr/>
          <p:nvPr/>
        </p:nvPicPr>
        <p:blipFill>
          <a:blip r:embed="rId1"/>
          <a:stretch/>
        </p:blipFill>
        <p:spPr>
          <a:xfrm>
            <a:off x="-304920" y="185760"/>
            <a:ext cx="9753840" cy="6486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6189840" y="6093000"/>
            <a:ext cx="2954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02a00"/>
                </a:solidFill>
                <a:latin typeface="Monotype Corsiva"/>
              </a:rPr>
              <a:t>Music: Gheorghe Zamf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SC_0076"/>
          <p:cNvPicPr/>
          <p:nvPr/>
        </p:nvPicPr>
        <p:blipFill>
          <a:blip r:embed="rId1"/>
          <a:stretch/>
        </p:blipFill>
        <p:spPr>
          <a:xfrm>
            <a:off x="-396720" y="189000"/>
            <a:ext cx="9753480" cy="6486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SC_0678"/>
          <p:cNvPicPr/>
          <p:nvPr/>
        </p:nvPicPr>
        <p:blipFill>
          <a:blip r:embed="rId1"/>
          <a:stretch/>
        </p:blipFill>
        <p:spPr>
          <a:xfrm>
            <a:off x="0" y="189000"/>
            <a:ext cx="9753480" cy="6486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SC_0084"/>
          <p:cNvPicPr/>
          <p:nvPr/>
        </p:nvPicPr>
        <p:blipFill>
          <a:blip r:embed="rId1"/>
          <a:stretch/>
        </p:blipFill>
        <p:spPr>
          <a:xfrm>
            <a:off x="0" y="189000"/>
            <a:ext cx="9753480" cy="6486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SC_0677"/>
          <p:cNvPicPr/>
          <p:nvPr/>
        </p:nvPicPr>
        <p:blipFill>
          <a:blip r:embed="rId1"/>
          <a:stretch/>
        </p:blipFill>
        <p:spPr>
          <a:xfrm>
            <a:off x="-304920" y="185760"/>
            <a:ext cx="9753840" cy="6486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SC_0679"/>
          <p:cNvPicPr/>
          <p:nvPr/>
        </p:nvPicPr>
        <p:blipFill>
          <a:blip r:embed="rId1"/>
          <a:stretch/>
        </p:blipFill>
        <p:spPr>
          <a:xfrm>
            <a:off x="0" y="189000"/>
            <a:ext cx="9753480" cy="6486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SC_0685"/>
          <p:cNvPicPr/>
          <p:nvPr/>
        </p:nvPicPr>
        <p:blipFill>
          <a:blip r:embed="rId1"/>
          <a:stretch/>
        </p:blipFill>
        <p:spPr>
          <a:xfrm>
            <a:off x="-609480" y="189000"/>
            <a:ext cx="9753480" cy="6486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SC_0689"/>
          <p:cNvPicPr/>
          <p:nvPr/>
        </p:nvPicPr>
        <p:blipFill>
          <a:blip r:embed="rId1"/>
          <a:stretch/>
        </p:blipFill>
        <p:spPr>
          <a:xfrm>
            <a:off x="-304920" y="185760"/>
            <a:ext cx="9753840" cy="6486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7:54:32Z</dcterms:created>
  <dc:creator>Vermeulen. W.a.</dc:creator>
  <dc:description/>
  <dc:language>en-US</dc:language>
  <cp:lastModifiedBy>Firmin Heynssens</cp:lastModifiedBy>
  <dcterms:modified xsi:type="dcterms:W3CDTF">2008-08-04T20:32:39Z</dcterms:modified>
  <cp:revision>22</cp:revision>
  <dc:subject/>
  <dc:title>Giethoorn w</dc:title>
</cp:coreProperties>
</file>