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Gheorghe%20Zamfir%20-%20O%20mio%20babbino%20car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218-4EF4-4869-B259-69506395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845D-EA4B-4D3E-B167-3AF3535E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59E3-6F6D-45C0-B8E4-C8856FAC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BDC-A729-4833-BB07-542E88A06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9F70-ECAB-4C49-9092-90220C96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A306-73B9-4D21-BBBC-D7908FC3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3765-4280-49EF-88E7-76CE43E09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4696-7BDC-419D-999B-70AA6159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74B-6C74-4247-ADCD-72F33818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06F9-B192-4296-BEF5-28B98BF2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3921-CB26-4383-AD9A-99614120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EDD7-34FF-4BFB-B9C3-072FBB2F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642D-D8D7-47AA-9FF8-4D2415D6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D57-3A1C-4EAF-AC8D-E14F2719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6F2D-3452-494B-9D85-C1251F2F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BD63-C0A4-4C2B-A88E-2D00AEEF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E818-ED57-44DB-8210-EF3649160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B215-AC34-4EDF-BE07-245E2130A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CA5-8171-40CA-8201-CDE8B7AB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3B8E-AAF3-42AD-8B77-240BC8D1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A0D6-6C85-43E3-B006-CA8376C7E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0EB5-6B41-4877-8831-548289DF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7039-8424-406D-93AA-277199A8E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06DD-DFAC-4779-B4EC-BBBEF461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FED9-1507-4776-9528-46DAE4A2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EAC5-4638-4A4D-B753-BA58F484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46A-4477-4B08-9565-EF9C2D3C8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3799-BAC2-4D7D-8168-6A30586A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87F-F53A-4B55-BE25-ABA5CD41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AD5-B998-42BB-88E2-2BB8D704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10B-5F11-42CF-8E9F-1025D585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841-D962-432E-ADDB-419DF438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4BB-791F-4E50-BFD8-A530A758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2CD-17F9-4C67-A371-005A73A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4AC-E814-4B55-9687-E08F934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DB8-015B-4B65-9B3C-DC0E2FDD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43B-9203-4A1C-901F-8F0510B5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6A4-35FB-46B4-83DF-85410D89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CFC-BE0A-422E-9EBD-B157606E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FC0-A4A3-4815-93FB-44995B4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DE35-EFF6-4B74-921E-7447B874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heorghe%20Zamfir%20-%20O%20mio%20babbino%20caro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SC_0060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00080" y="514368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rp zonder straten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642960" y="1285920"/>
            <a:ext cx="3343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iethoorn</a:t>
            </a:r>
            <a:endParaRPr b="1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split dir="out" orient="vert"/>
    <p:sndAc>
      <p:stSnd>
        <p:snd r:embed="rId6" name="Gheorghe%20Zamfir%20-%20O%20mio%20babbino%20ca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SC_0694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G_43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G_44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MG_44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G_4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MG_44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MG_44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MG_4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_44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44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IMG_44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44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44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4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44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IMG_4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C_0688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SC_0692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DSC_0083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189840" y="6093000"/>
            <a:ext cx="2954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02a00"/>
                </a:solidFill>
                <a:latin typeface="Monotype Corsiva"/>
              </a:rPr>
              <a:t>Music: Gheorghe Zamf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SC_0076"/>
          <p:cNvPicPr/>
          <p:nvPr/>
        </p:nvPicPr>
        <p:blipFill>
          <a:blip r:embed="rId1"/>
          <a:stretch/>
        </p:blipFill>
        <p:spPr>
          <a:xfrm>
            <a:off x="-39672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SC_0678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SC_0084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SC_0677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SC_0679"/>
          <p:cNvPicPr/>
          <p:nvPr/>
        </p:nvPicPr>
        <p:blipFill>
          <a:blip r:embed="rId1"/>
          <a:stretch/>
        </p:blipFill>
        <p:spPr>
          <a:xfrm>
            <a:off x="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SC_0685"/>
          <p:cNvPicPr/>
          <p:nvPr/>
        </p:nvPicPr>
        <p:blipFill>
          <a:blip r:embed="rId1"/>
          <a:stretch/>
        </p:blipFill>
        <p:spPr>
          <a:xfrm>
            <a:off x="-609480" y="189000"/>
            <a:ext cx="975348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SC_0689"/>
          <p:cNvPicPr/>
          <p:nvPr/>
        </p:nvPicPr>
        <p:blipFill>
          <a:blip r:embed="rId1"/>
          <a:stretch/>
        </p:blipFill>
        <p:spPr>
          <a:xfrm>
            <a:off x="-304920" y="185760"/>
            <a:ext cx="9753840" cy="6486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7:54:32Z</dcterms:created>
  <dc:creator>Vermeulen. W.a.</dc:creator>
  <dc:description/>
  <dc:language>en-US</dc:language>
  <cp:lastModifiedBy>Firmin Heynssens</cp:lastModifiedBy>
  <dcterms:modified xsi:type="dcterms:W3CDTF">2008-08-04T20:32:39Z</dcterms:modified>
  <cp:revision>22</cp:revision>
  <dc:subject/>
  <dc:title>Giethoorn w</dc:title>
</cp:coreProperties>
</file>