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A4C6-C3CC-4DD1-A683-F2CF0A6B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4C58-677E-426A-AA8F-0227D3D5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F4AE-70A8-439D-8085-E0E40C32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07D5-AA33-4A86-B05C-098125DB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3BA0-1704-4B39-99CD-666D5EAF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A5A1-6A69-4F2B-89F7-7C8382FF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FD26-A879-4D9D-8522-F343DB7C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412E-BBAE-4A8F-879F-670240E9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007D-5A21-4295-A996-75D2107C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E0D9-6B48-4045-8E0F-168C0283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9CFF-DA13-44B4-AF49-F6C27A83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1E02-F647-4B54-98CF-5B389A47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E57458-F89C-4D64-BC14-A13EC075DBD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612431-48F1-4FCB-8C25-B3BFDCC2BA77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slide" Target="slide4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4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" name="Picture 4" descr="200-1-1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" name="Picture 4" descr="200-1-2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1" name="Picture 4" descr="200-후렴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1" name="Picture 4" descr="200-2-1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1" name="Picture 14" descr="200-2-2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Picture 4" descr="200-후렴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1" name="Picture 14" descr="200-3-1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3" name="Picture 6" descr=""/>
            <p:cNvPicPr/>
            <p:nvPr/>
          </p:nvPicPr>
          <p:blipFill>
            <a:blip r:embed="rId1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6" name="Picture 9" descr=""/>
            <p:cNvPicPr/>
            <p:nvPr/>
          </p:nvPicPr>
          <p:blipFill>
            <a:blip r:embed="rId2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9" name="Picture 12" descr=""/>
            <p:cNvPicPr/>
            <p:nvPr/>
          </p:nvPicPr>
          <p:blipFill>
            <a:blip r:embed="rId3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1" name="Picture 4" descr="200-3-2 copy"/>
          <p:cNvPicPr/>
          <p:nvPr/>
        </p:nvPicPr>
        <p:blipFill>
          <a:blip r:embed="rId4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3" name="Picture 6" descr=""/>
            <p:cNvPicPr/>
            <p:nvPr/>
          </p:nvPicPr>
          <p:blipFill>
            <a:blip r:embed="rId1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6" name="Picture 9" descr=""/>
            <p:cNvPicPr/>
            <p:nvPr/>
          </p:nvPicPr>
          <p:blipFill>
            <a:blip r:embed="rId2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9" name="Picture 12" descr=""/>
            <p:cNvPicPr/>
            <p:nvPr/>
          </p:nvPicPr>
          <p:blipFill>
            <a:blip r:embed="rId3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1" name="Picture 4" descr="200-후렴end copy"/>
          <p:cNvPicPr/>
          <p:nvPr/>
        </p:nvPicPr>
        <p:blipFill>
          <a:blip r:embed="rId4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7:34:56Z</dcterms:created>
  <dc:creator>최봉수</dc:creator>
  <dc:description/>
  <dc:language>en-US</dc:language>
  <cp:lastModifiedBy>맛있다 군만두</cp:lastModifiedBy>
  <dcterms:modified xsi:type="dcterms:W3CDTF">2024-08-30T04:54:26Z</dcterms:modified>
  <cp:revision>4</cp:revision>
  <dc:subject/>
  <dc:title>슬라이드 1</dc:title>
</cp:coreProperties>
</file>