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C6C-9506-4F32-B196-B57D36A0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9314-DE26-4EC3-8B7D-9A60EDF9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F86-3023-4FB5-B962-D0A74F50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920-91E6-4848-A115-3DD79A67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2BA-9F98-4F1A-ABA8-F65043A5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D24D-64B5-49E2-8CF8-CB1DF4B4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6E3-68A6-41EB-B1F2-7AD630B1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8728-6D6B-4A32-92C7-F5969F3A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69C1-47BC-4E96-85C0-832F2CD3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273F-9190-4C49-88DC-7B1A5A36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A8A1-588A-4ADF-B596-E5E8DDE7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9904-C85B-45FE-8FFA-C7C8A198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6ABF9-AA26-446C-9F38-C9B5ED7C428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58A00-E3E4-4DA4-9141-3FBE8FACA08D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4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Picture 4" descr="200-1-1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4" descr="200-1-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4" descr="200-후렴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" name="Picture 4" descr="200-2-1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14" descr="200-2-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Picture 4" descr="200-후렴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1" name="Picture 14" descr="200-3-1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3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6" name="Picture 9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9" name="Picture 12" descr=""/>
            <p:cNvPicPr/>
            <p:nvPr/>
          </p:nvPicPr>
          <p:blipFill>
            <a:blip r:embed="rId3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Picture 4" descr="200-3-2 copy"/>
          <p:cNvPicPr/>
          <p:nvPr/>
        </p:nvPicPr>
        <p:blipFill>
          <a:blip r:embed="rId4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3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6" name="Picture 9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9" name="Picture 12" descr=""/>
            <p:cNvPicPr/>
            <p:nvPr/>
          </p:nvPicPr>
          <p:blipFill>
            <a:blip r:embed="rId3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1" name="Picture 4" descr="200-후렴end copy"/>
          <p:cNvPicPr/>
          <p:nvPr/>
        </p:nvPicPr>
        <p:blipFill>
          <a:blip r:embed="rId4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7:34:56Z</dcterms:created>
  <dc:creator>최봉수</dc:creator>
  <dc:description/>
  <dc:language>en-US</dc:language>
  <cp:lastModifiedBy>맛있다 군만두</cp:lastModifiedBy>
  <dcterms:modified xsi:type="dcterms:W3CDTF">2024-08-30T04:54:26Z</dcterms:modified>
  <cp:revision>4</cp:revision>
  <dc:subject/>
  <dc:title>슬라이드 1</dc:title>
</cp:coreProperties>
</file>